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Indexes of wave reflection and beat cycle physiology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ystemic hemodynamic augmentation index, time to the reflected wave, tension-time index, diastolic time fraction, left ventricular (LV) ejection time, and Buckberg index. GTN indicates nitroglycerin. *Statistical significance, baseline vs peak exercis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&lt;0.05. †Statistical significance, peak exercise vs 2 minutes after nitroglycerin administration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&lt;0.05. ‡Significant difference, peak exercise after nitroglycerin administration vs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dexes of wave reflection and beat cycle physiolog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00240" y="1079640"/>
            <a:ext cx="40849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00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