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Hemodynamics on exercise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ystemic hemodynamic parameters of heart rate, mean aortic pressure, and rate-pressure product (RPP) during study protocol. BP indicates blood pressure; and GTN, nitroglycerin. *Statistical significance, baseline vs peak exercis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&lt;0.05. †Statistically significant difference between peak and 2 minutes after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emodynamics on exerci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22800" y="1079640"/>
            <a:ext cx="34383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28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