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Supine exercise resistance protocol and ST-segment change.T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Exercise performance summarized cycling resistance in Watts with patients cycling at 60 rpm, at baseline (Base), 50% of the time (t50) to peak exercise (peak) when patients experienced significant limiting symptoms, and continued exercise 1 and 2 minutes after peak. At time peak, half the patients had sublingual nitroglycerin (GTN) administered, and all patients continued to exercise for an extra 2 minutes at the same workload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ott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he mean surface ECG ST-segment deviation in millivolts. *Statistical significance, baseline vs peak exercis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&lt;0.05. ‡Significant difference, peak after nitroglycerin (GTN) vs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pine exercise resistance protocol and ST-segment chan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03720" y="1079640"/>
            <a:ext cx="347652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0372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leab N. Asrress et al. Circulation. 2017;136:24-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