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Aortic and coronary signals.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Pressure waveform recorded from the ascending aorta from a study patient. Two systolic peaks are labeled P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P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. Augmentation index is calculated as augmented pressure (P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−P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as a percentage of total pulse pressure, P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. The time to the reflected wave from the foot of the pressure tracing to the inflection point is shown as T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. The area under the curve during systole is the tension-time index (TTI), and the area under diastole is the diastolic time index (DTI). Buckberg index is calculated as BI=DTI/TTI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Typical coronary pressure and flow velocity recording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Ensemble-averaged pressure and flow velocity signals (blue lines indicate pressure; red line indicates flow velocity)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The diastolic velocity–pressure gradient relationship, expressed as raw signals, is shown (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bottom lef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, with the data fitted with a quadratic equatio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Δ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=0+kv+Sv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where Δ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is the instantaneous pressure gradient (mm Hg), v is the coronary flow velocity (cm/s), k is the coefficient of pressure loss resulting from viscous friction, and S is the coefficient of pressure loss caused by flow separation or localized turbul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ortic and coronary signal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30280" y="1079640"/>
            <a:ext cx="722304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302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aleab N. Asrress et al. Circulation. 2017;136:24-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