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Diastolic coronary velocity–pressure gradient relation.T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Two time points: 50% of peak exercise (t50) and peak exercise recordings in 1 individual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Bott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Regression lines that arise from aggregating the k and S coefficients from recordings in all patients. Solid lines represent the control group; dashed lines, those who received nitroglycerin (GTN). Black line indicates baseline; blue, t50; red, peak; purple, 1 minute after peak; and green, 2 minutes after peak. *Statistically significant difference vs baseline of the k coefficient (Table 4 lists all the coefficien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astolic coronary velocity–pressure gradient rela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684520" y="1079640"/>
            <a:ext cx="471636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845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aleab N. Asrress et al. Circulation. 2017;136:24-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