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Coronary hemodynamics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ean distal pressure (Pd) to aortic pressure (Pa) ratio and relative change in coronary flow velocity as a ratio of average peak velocity at individual time points vs baseline. GTN indicates nitroglycerin; and t50, 50% of peak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onary hemodynami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33600" y="1079640"/>
            <a:ext cx="341820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336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aleab N. Asrress et al. Circulation. 2017;136:24-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