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orrelation between results of CSA measurements of EEM, lumen, and P+M by observers 1 and 2 with (right) and without (left) BN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relation between results of CSA measurements of EEM, lumen, and P+M by observers 1 and 2 with (right) and without (left) BN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654360" y="1079640"/>
            <a:ext cx="277488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543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iyoshi Hibi et al. Circulation. 2000;102:165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