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rrelation between results of CSA measurements of EEM, lumen, and P+M by the first and second observation by observer 1 with (right) and without (left) BN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relation between results of CSA measurements of EEM, lumen, and P+M by the first and second observation by observer 1 with (right) and without (left) BN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60840" y="1079640"/>
            <a:ext cx="276372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608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yoshi Hibi et al. Circulation. 2000;102:165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