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traobserver (top) and interobserver (bottom) variabilities of measurements for lumen CSA by observers 1 and 2 with (right) and without (left) BN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raobserver (top) and interobserver (bottom) variabilities of measurements for lumen CSA by observers 1 and 2 with (right) and without (left) BN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965320" y="1079640"/>
            <a:ext cx="41547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653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yoshi Hibi et al. Circulation. 2000;102:165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