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lowchart for Class I and Class IIa Recommendations for Initial Management of UA/NSTE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owchart for Class I and Class IIa Recommendations for Initial Management of UA/NSTEM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39960" y="1079640"/>
            <a:ext cx="6405480" cy="5394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996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11 Writing Group Members et al. Circulation. 2011;123:2022-2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