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pplying Classification of Recommendation and Level of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ying Classification of Recommendation and Level of Eviden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28880" y="1079640"/>
            <a:ext cx="622620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2888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11 Writing Group Members et al. Circulation. 2011;123:2022-20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