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sldImg"/>
          </p:nvPr>
        </p:nvSpPr>
        <p:spPr>
          <a:xfrm>
            <a:off x="1587240" y="1006200"/>
            <a:ext cx="4593960" cy="34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1185480" y="4787640"/>
            <a:ext cx="5405400" cy="38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56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Figure 3. Association between MR grade, treatment assignment, and 1-year surviv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73944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1490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64932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55920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73944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64932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55920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739440" y="62676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490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727280" indent="-21600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15892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15892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15892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420840"/>
            <a:ext cx="936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igure 3. Association between MR grade, treatment assignment, and 1-year survival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88880" y="6861240"/>
            <a:ext cx="1389240" cy="561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092240" y="1079640"/>
            <a:ext cx="7900920" cy="53942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092240" y="6583320"/>
            <a:ext cx="43196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Michael H. Picard et al. Circulation. 2003;107:279-28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975280" y="7289640"/>
            <a:ext cx="39956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5680" indent="-8568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opyright © American Heart Association, Inc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