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2. Estimated 1-year survival by treatment assignment. LVEF measured within 24 hours of randomization (before any revascularization attempt) is significantly associated with 1-year survival (P=0.025). Tick marks at top and bottom of plot indicate raw data values for ERV and IMS group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2. Estimated 1-year survival by treatment assign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22400" y="1079640"/>
            <a:ext cx="80391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22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H. Picard et al. Circulation. 2003;107:279-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