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1. Kaplan-Meier estimates of survival up to 1 year after randomization for 4 combinations of LVEF and MR (log-rank test P=0.0001). Total n=90; MR 0/1 and LVEF ≥28%, n= 33; MR 0/1 and LVEF &lt;28%, n= 20; MR 2/3/4 and LVEF ≥28%, n= 16; MR 2/3/4 and LVEF &lt;28%, n= 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1. Kaplan-Meier estimates of survival up to 1 year after randomization for 4 combinations of LVEF and MR (log-rank test P=0.0001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9800" y="1108080"/>
            <a:ext cx="8604360" cy="5337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chael H. Picard et al. Circulation. 2003;107:279-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