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Tukey Box-and-whisker plot of coronary artery calcium (CAC) scores in male athletes and relatively sedentary healthy males with CAC ≥1 Agatston units.</a:t>
            </a:r>
            <a:r>
              <a:rPr b="0" lang="en-GB" sz="1200" spc="-1" strike="noStrike">
                <a:solidFill>
                  <a:srgbClr val="000000"/>
                </a:solidFill>
                <a:latin typeface="Arial"/>
                <a:ea typeface="msgothic"/>
              </a:rPr>
              <a:t> *Control outliers 226 to 570. **Athlete outliers 723 to 342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Coronary plaques and luminal stenoses artery in male athletes and relatively sedentary healthy males. A</a:t>
            </a:r>
            <a:r>
              <a:rPr b="0" lang="en-GB" sz="1200" spc="-1" strike="noStrike">
                <a:solidFill>
                  <a:srgbClr val="000000"/>
                </a:solidFill>
                <a:latin typeface="Arial"/>
                <a:ea typeface="msgothic"/>
              </a:rPr>
              <a:t>, Number of atherosclerotic plaques observed on computerized tomographic (CT) angiography in male athletes and relatively sedentary male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Distribution of coronary plaques in athletic men (99 coronary plaques) and relatively sedentary males (26 coronary plaque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Luminal stenoses in male athletes and sedentary ma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Plaque morphology in male athletes (99 coronary plaques) and relatively sedentary males (26 coronary plaqu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Myocardial fibrosis in athletes demonstrated by late gadolinium enhancement on cardiovascular magnetic resonance</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Distribution of fibrosi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Subepicardial scar in a 61-year-old male athlete.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Subendocardial scar in a 73-year-old runner.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Basolateral mid-wall fibrosis in a 52-year-old male athlete. M indicates males; and F, fem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revalence of Subclinical Coronary Artery Disease in Masters Endurance Athletes With a Low Atherosclerotic Risk Profile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hmed Merghani, Viviana Maestrini, Stefania Rosmini, Andrew T. Cox, Harshil Dhutia, Rachel Bastiaenan, Sarojini David, Tee Joo Yeo, Rajay Narain, Aneil Malhotra, Michael Papadakis, Mathew G. Wilson, Maite Tome, Khaled AlFakih, James C. Moon, and Sanjay Sharm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36(2):126-13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1, 2017</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ukey Box-and-whisker plot of coronary artery calcium (CAC) scores in male athletes and relatively sedentary healthy males with CAC ≥1 Agatston units. *Control outliers 226 to 570. **Athlete outliers 723 to 3422.</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2637000" y="1079640"/>
            <a:ext cx="4809960" cy="5394240"/>
          </a:xfrm>
          <a:prstGeom prst="rect">
            <a:avLst/>
          </a:prstGeom>
          <a:ln w="0">
            <a:noFill/>
          </a:ln>
        </p:spPr>
      </p:pic>
      <p:sp>
        <p:nvSpPr>
          <p:cNvPr id="49" name=""/>
          <p:cNvSpPr/>
          <p:nvPr/>
        </p:nvSpPr>
        <p:spPr>
          <a:xfrm>
            <a:off x="26370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hmed Merghani et al. Circulation. 2017;136:126-137</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onary plaques and luminal stenoses artery in male athletes and relatively sedentary healthy mal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2795760" y="1079640"/>
            <a:ext cx="4492440" cy="5394240"/>
          </a:xfrm>
          <a:prstGeom prst="rect">
            <a:avLst/>
          </a:prstGeom>
          <a:ln w="0">
            <a:noFill/>
          </a:ln>
        </p:spPr>
      </p:pic>
      <p:sp>
        <p:nvSpPr>
          <p:cNvPr id="54" name=""/>
          <p:cNvSpPr/>
          <p:nvPr/>
        </p:nvSpPr>
        <p:spPr>
          <a:xfrm>
            <a:off x="27957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hmed Merghani et al. Circulation. 2017;136:126-137</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laque morphology in male athletes (99 coronary plaques) and relatively sedentary males (26 coronary plaques).</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2211480" y="1079640"/>
            <a:ext cx="5662440" cy="5394240"/>
          </a:xfrm>
          <a:prstGeom prst="rect">
            <a:avLst/>
          </a:prstGeom>
          <a:ln w="0">
            <a:noFill/>
          </a:ln>
        </p:spPr>
      </p:pic>
      <p:sp>
        <p:nvSpPr>
          <p:cNvPr id="59" name=""/>
          <p:cNvSpPr/>
          <p:nvPr/>
        </p:nvSpPr>
        <p:spPr>
          <a:xfrm>
            <a:off x="2211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hmed Merghani et al. Circulation. 2017;136:126-137</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yocardial fibrosis in athletes demonstrated by late gadolinium enhancement on cardiovascular magnetic resonanc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1611360" y="1079640"/>
            <a:ext cx="6864480" cy="5394240"/>
          </a:xfrm>
          <a:prstGeom prst="rect">
            <a:avLst/>
          </a:prstGeom>
          <a:ln w="0">
            <a:noFill/>
          </a:ln>
        </p:spPr>
      </p:pic>
      <p:sp>
        <p:nvSpPr>
          <p:cNvPr id="64" name=""/>
          <p:cNvSpPr/>
          <p:nvPr/>
        </p:nvSpPr>
        <p:spPr>
          <a:xfrm>
            <a:off x="1611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hmed Merghani et al. Circulation. 2017;136:126-137</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