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dications for Surgery for MR (Updated Figure 4 From the 2014 VHD guideline). *MV repair is preferred over MV replacement when possible. AF indicates atrial fibrillation; CAD, coronary artery disease; CRT, cardiac resynchronization therapy; EF, ejection fraction; ERO, effective regurgitant orifice; HF, heart failure; LV, left ventricular; LVEF, left ventricular ejection fraction; LVESD, left ventricular end-systolic diameter; MR, mitral regurgitation; MV, mitral valve; NYHA, New York Heart Association; PASP, pulmonary artery systolic pressure; RF, regurgitant fraction; RVol, regurgitant volume; and Rx,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dications for Surgery for MR (Updated Figure 4 From the 2014 VHD guideline). *MV repair is preferred over MV replacement when possib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84400" y="1079640"/>
            <a:ext cx="77151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4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ick A. Nishimura et al. Circulation. 2017;135:e1159-e11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