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hoice of TAVR Versus Surgical AVR in the Patient With Severe Symptomatic AS. AS indicates aortic stenosis; AVR, aortic valve replacement; and TAVR, transcatheter aortic valve replac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oice of TAVR Versus Surgical AVR in the Patient With Severe Symptomatic AS. AS indicates aortic stenosis; AVR, aortic valve replacement; and TAVR, transcatheter aortic valve replac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800" y="2116080"/>
            <a:ext cx="8604360" cy="332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ick A. Nishimura et al. Circulation. 2017;135:e1159-e11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