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Trajectory of systolic blood pressure during 60 months before death (red) or end of study (blue). Lef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Mean SBP by month: (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squares, not treated; (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circles, treated with antihypertensive medication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Righ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Predictions (95% confidence intervals) from multiple fractional polynomial model adjusted for age, sex, calendar year, and frailty category: (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not treated; (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treated with antihypertensive med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stolic Blood Pressure Trajectory, Frailty, and All-Cause Mortality &gt;80 Years of AgeClin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Rathi Ravindrarajah, Nisha C. Hazra, Shota Hamada, Judith Charlton, Stephen H.D. Jackson, Alex Dregan, and Martin C. Gullif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35(24):2357-23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une 13,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jectory of systolic blood pressure during 60 months before death (red) or end of study (blue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79800" y="1079640"/>
            <a:ext cx="57258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7980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thi Ravindrarajah et al. Circulation. 2017;135:2357-23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