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ECG obtained after elective mitral valve repai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ECG findings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Sinus rhythm with fixed preexcitation and Mobitz I block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Arro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indicates a junctional escape beat with the same degree of pre-excitation. These findings confirm the presence of a fasciculoventricular accessory path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 Your Usual Pre-Exc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Rajat Goyal, Abhijeet Singh, and Roger F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35(18):1759-17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y 2,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CG obtained after elective mitral valve repai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49320" y="1079640"/>
            <a:ext cx="818820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493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jat Goyal et al. Circulation. 2017;135:1759-17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CG finding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44640" y="1079640"/>
            <a:ext cx="819468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446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jat Goyal et al. Circulation. 2017;135:1759-17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