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Study population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MI indicates acute myocardial infarction; CAD, coronary artery disease; and MINOCA, myocardial infarction with nonobstructive coronary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Survival curves for treated and untreated in the 1:1 propensity score–matched populations.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tatin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ngiotensin-converting enzyme inhibitors (ACEI) or angiotensin receptor blockers (ARB)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β-blocker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Dual antiplatelet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dical Therapy for Secondary Prevention and Long-Term Outcome in Patients With Myocardial Infarction With Nonobstructive Coronary Artery Disease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Bertil Lindahl, Tomasz Baron, David Erlinge, Nermin Hadziosmanovic, Anna Nordenskjöld, Anton Gard, and Tomas Je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5(16):1481-14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pril 18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udy popu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73400" y="1079640"/>
            <a:ext cx="3740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3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rtil Lindahl et al. Circulation. 2017;135:1481-14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rvival curves for treated and untreated in the 1:1 propensity score–matched popul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7560" y="1079640"/>
            <a:ext cx="61102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75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rtil Lindahl et al. Circulation. 2017;135:1481-14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