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Index ECG performed at the other hospital.</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ollow-up ECG in our center.</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rtefactual ST-segment elevation mimicking ST-segment–elevation acute myocardial infarction.</a:t>
            </a:r>
            <a:r>
              <a:rPr b="0" lang="en-GB" sz="1200" spc="-1" strike="noStrike">
                <a:solidFill>
                  <a:srgbClr val="000000"/>
                </a:solidFill>
                <a:latin typeface="Arial"/>
                <a:ea typeface="msgothic"/>
              </a:rPr>
              <a:t> In the limb leads, ST-segment deviation lasts only ≈120 ms, an interval that is too short to account for the entire ST segment, because it would correspond to a QTc interval of ≈230 ms. However, the QTc interval is normal (≈450 ms), as can be inferred from lead II (vertical dashed lines mark the end of the T wave). Thus, it becomes apparent that, in the limb leads, the ST segment incorporates a deviated and nondeviated part, and that the transition between these distinct parts of the ST segment is sharp and nonphysiological (arrows). In addition, similarly timed nonphysiological deflections of the ST segment are also present in all precordial leads (arrowheads), and other sharp nonphysiological deflections of opposite polarities are also present in opposite leads (asterisk). In lead II, however, the tracing is completely normal, with no abnormal deflections seen in any of its components, including the ST segment (box). The ECG pattern of abnormal deflections (most notably ST-segment deviations) in all leads except 1 limb lead is highly suggestive of a malfunctional limb electrode. See text for further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ferior ST-Elevation on the ECG</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ndrei D. Mărgulesc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5(12):1177-118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21, 2017</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dex ECG performed at the other hospital.</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479600"/>
            <a:ext cx="8604360" cy="459432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drei D. Mărgulescu Circulation. 2017;135:1177-1180</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ollow-up ECG in our center.</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433520" y="1079640"/>
            <a:ext cx="7219800" cy="5394240"/>
          </a:xfrm>
          <a:prstGeom prst="rect">
            <a:avLst/>
          </a:prstGeom>
          <a:ln w="0">
            <a:noFill/>
          </a:ln>
        </p:spPr>
      </p:pic>
      <p:sp>
        <p:nvSpPr>
          <p:cNvPr id="54" name=""/>
          <p:cNvSpPr/>
          <p:nvPr/>
        </p:nvSpPr>
        <p:spPr>
          <a:xfrm>
            <a:off x="1433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drei D. Mărgulescu Circulation. 2017;135:1177-1180</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rtefactual ST-segment elevation mimicking ST-segment–elevation acute myocardial infarc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739800" y="1405080"/>
            <a:ext cx="8604360" cy="474156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drei D. Mărgulescu Circulation. 2017;135:1177-1180</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