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Twenty-four hour Holter monitor obtained due to intermittent chest pai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and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A 24-hour Holter monitor was obtained to evaluate daily chest pain. Multiple instances of intermittent T-wave inversions were inconsistently associated with chest p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Three 12-lead electrocardiograms depict cardiac memory after a midseptal bypass tract ablation. 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Baseline (preablation) electrocardiogram (ECG) showing preexcitation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B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CG obtained 1 hour after ablation. Multiple T-wave changes are shown, including T-wave inversions, flattening in the inferior leads, and normalization of the T-waves in the lateral leads and across the precordium. Note the tall, peaked T-waves in the right precordial leads.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ECG obtained 2 months after ablation showing normalization of the inferior T-wave changes and a reduction in the amplitude of the right precordial T-wav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hest Pain and T-Wave Inversions in a 56-Year-Old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Nishant Verma, and Bradley P. Kn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135(10):998-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arch 7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wenty-four hour Holter monitor obtained due to intermittent chest pai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382840" y="1079640"/>
            <a:ext cx="531972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828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ishant Verma, and Bradley P. Knight Circulation. 2017;135:998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hree 12-lead electrocardiograms depict cardiac memory after a midseptal bypass tract abla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8880" y="6861240"/>
            <a:ext cx="1389240" cy="561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39800" y="2236680"/>
            <a:ext cx="8604360" cy="3078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3980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ishant Verma, and Bradley P. Knight Circulation. 2017;135:998-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75280" y="7289640"/>
            <a:ext cx="399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American Heart Association, Inc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