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Overview of existing knowledge regarding exercise training and atrial fibrillation. AF indicates atrial fibrillation; BP, blood pressure; and HR, heart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verview of existing knowledge regarding exercise training and atrial fibrilla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58880" y="1079640"/>
            <a:ext cx="8567640" cy="5394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5888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rian D. Elliott et al. Circulation. 2016;133:457-4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