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Overview of existing knowledge regarding exercise training and atrial fibrillation. AF indicates atrial fibrillation; BP, blood pressure; and HR, heart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rcise Training and Atrial Fibri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Adrian D. Elliott, Rajiv Mahajan, Rajeev K. Pathak, Dennis H. Lau, and Prashanthan Sa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33(5):457-4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2, 20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verview of existing knowledge regarding exercise training and atrial fibrill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8880" y="1079640"/>
            <a:ext cx="856764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888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rian D. Elliott et al. Circulation. 2016;133:457-4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