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lowchart of the enrollment of the study cohort. From January 1, 1996, to December 31, 2011, a total of 168 678 patients with atrial fibrillation (AF) who did not receive rate-control medications were identified from the National Health Insurance Research Database (NHIRD) to constitute the reference group. Among the 101 243 patients with AF who received a single type of rate-control drug, 43 879 patients were taking β-blockers, 18 466 patients were taking calcium channel blockers, and 38 898 patients were taking digox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umulative incidence curves of mortality in patients with atrial fibrillation receiving different medications for rate control. The cumulative incidence curves with the log-rank test showed that the risk of mortality was lower in patients treated with β-blockers and higher in patients receiving digox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ate-control medications and the risk of mortality in different groups of patients. In the subgroup analysis, the use of β-blockers for rate control consistently decreased and digoxin increased the risk of mortality in different groups of patients. The use of calcium channel blockers (CCBs) was associated with a survival benefit except for in female patients and those receiving treatment with aspirin, clopidogrel, warfarin, or Class I/III antiarrhythmic drugs (AADs). *Adjustment for all variables in Table 1, including age, sex, comorbidities, medications, degree of urbanization, and income level. ACEI indicates angiotensin-converting enzyme inhibitor; ARB, angiotensin II receptor blocker; CI, confidence interval; CKD, chronic kidney disease; COPD, chronic obstructive pulmonary disease; HR, hazard ratio; and TIA, transient ischemic at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requency of drug use and risk of mortality. Among the group of β-blockers (BBs) and calcium channel blockers (CCBs), patients receiving drugs more frequently had a lower risk of mortality compared with those with less frequent use. In contrast, the risk of mortality was higher among patients who received digoxin more frequently. *Adjustment for all variables in Table 1, including age, sex, comorbidities, medications, degree of urbanization, and income level. CI indicates confidence interval; and HR, hazard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-Control Treatment and Mortality in Atrial FibrillationCLIN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Tze-Fan Chao, Chia-Jen Liu, Ta-Chuan Tuan, Su-Jung Chen, Kang-Ling Wang, Yenn-Jiang Lin, Shih-Lin Chang, Li-Wei Lo, Yu-Feng Hu, Tzeng-Ji Chen, Chern-En Chiang, and Shih-Ann 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32(17):1604-16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ctober 27,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owchart of the enrollment of the study coh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824200" y="1079640"/>
            <a:ext cx="443844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242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ze-Fan Chao et al. Circulation. 2015;132:1604-16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umulative incidence curves of mortality in patients with atrial fibrillation receiving different medications for rate contro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47760" y="1079640"/>
            <a:ext cx="758844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477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ze-Fan Chao et al. Circulation. 2015;132:1604-16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ate-control medications and the risk of mortality in different groups of pati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87640" y="1079640"/>
            <a:ext cx="231012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876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ze-Fan Chao et al. Circulation. 2015;132:1604-16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requency of drug use and risk of mortal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606760" y="1079640"/>
            <a:ext cx="487188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067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ze-Fan Chao et al. Circulation. 2015;132:1604-16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