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lobal Registry of Acute Coronary Events Risk Calculator for In-Hospital Mortality for Acute Coronary Syndr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lobal Registry of Acute Coronary Events Risk Calculator for In-Hospital Mortality for Acute Coronary Syndro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30720" y="1079640"/>
            <a:ext cx="34257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3072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zra A. Amsterdam et al. Circulation. 2014;130:e344-e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