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PlaceHolder 1"/>
          <p:cNvSpPr>
            <a:spLocks noGrp="1"/>
          </p:cNvSpPr>
          <p:nvPr>
            <p:ph type="body"/>
          </p:nvPr>
        </p:nvSpPr>
        <p:spPr>
          <a:xfrm>
            <a:off x="1185840" y="4787640"/>
            <a:ext cx="5407200" cy="529596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cute Coronary Syndromes. The top half of the figure illustrates the progression of plaque formation and onset and complications of NSTE-ACS, with management at each stage. The numbered section of an artery depicts the process of atherogenesis from 1) normal artery to 2) extracellular lipid in the subintima to 3) fibrofatty stage to 4) procoagulant expression and weakening of the fibrous cap. ACS develops with 5) disruption of the fibrous cap, which is the stimulus for thrombogenesis. 6) Thrombus resorption may be followed by collagen accumulation and smooth muscle cell growth. Thrombus formation and possible coronary vasospasm reduce blood flow in the affected coronary artery and cause ischemic chest pain. The bottom half of the figure illustrates the clinical, pathological, electrocardiographic, and biomarker correlates in ACS and the general approach to management. Flow reduction may be related to a completely occlusive thrombus (bottom half, right side) or subtotally occlusive thrombus (bottom half, left side). Most patients with ST-elevation (thick white arrow in bottom panel) develop QwMI, and a few (thin white arrow) develop NQMI. Those without ST-elevation have either UA or NSTEMI (thick red arrows), a distinction based on cardiac biomarkers. Most patients presenting with NSTEMI develop NQMI; a few may develop QwMI. The spectrum of clinical presentations including UA, NSTEMI, and STEMI is referred to as ACS. This NSTE-ACS CPG includes sections on initial management before NSTE-ACS, at the onset of NSTE-ACS, and during the hospital phase. Secondary prevention and plans for long-term management begin early during the hospital phase. Patients with noncardiac etiologies make up the largest group presenting to the ED with chest pain (dashed arrow). *Elevated cardiac biomarker (eg, troponin), Section 3.4. ACS indicates acute coronary syndrome; CPG, clinical practice guideline; Dx, diagnosis; ECG, electrocardiogram; ED, emergency department; Ml, myocardial infarction; NQMI, non-Q-wave myocardial infarction; NSTE-ACS, non-ST-elevation acute coronary syndromes; NSTEMI, non-ST-elevation myocardial infarction; QwMI, Q-wave myocardial infarction; STEMI, ST-elevation myocardial infarction; and UA, unstable angina. Modified with permission from Libby et al.</a:t>
            </a:r>
            <a:r>
              <a:rPr b="0" lang="en-GB" sz="1200" spc="-1" strike="noStrike" baseline="33000">
                <a:solidFill>
                  <a:srgbClr val="000000"/>
                </a:solidFill>
                <a:latin typeface="Arial"/>
                <a:ea typeface="msgothic"/>
              </a:rPr>
              <a:t>3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cute Coronary Syndromes. </a:t>
            </a:r>
            <a:endParaRPr b="0" lang="en-US" sz="1600" spc="-1" strike="noStrike">
              <a:solidFill>
                <a:srgbClr val="000000"/>
              </a:solidFill>
              <a:latin typeface="Times New Roman"/>
            </a:endParaRPr>
          </a:p>
        </p:txBody>
      </p:sp>
      <p:pic>
        <p:nvPicPr>
          <p:cNvPr id="42" name="" descr=""/>
          <p:cNvPicPr/>
          <p:nvPr/>
        </p:nvPicPr>
        <p:blipFill>
          <a:blip r:embed="rId1"/>
          <a:stretch/>
        </p:blipFill>
        <p:spPr>
          <a:xfrm>
            <a:off x="488880" y="6861240"/>
            <a:ext cx="1389240" cy="561960"/>
          </a:xfrm>
          <a:prstGeom prst="rect">
            <a:avLst/>
          </a:prstGeom>
          <a:ln w="0">
            <a:noFill/>
          </a:ln>
        </p:spPr>
      </p:pic>
      <p:pic>
        <p:nvPicPr>
          <p:cNvPr id="43" name="" descr=""/>
          <p:cNvPicPr/>
          <p:nvPr/>
        </p:nvPicPr>
        <p:blipFill>
          <a:blip r:embed="rId2"/>
          <a:stretch/>
        </p:blipFill>
        <p:spPr>
          <a:xfrm>
            <a:off x="3125880" y="1079640"/>
            <a:ext cx="3835440" cy="5394240"/>
          </a:xfrm>
          <a:prstGeom prst="rect">
            <a:avLst/>
          </a:prstGeom>
          <a:ln w="0">
            <a:noFill/>
          </a:ln>
        </p:spPr>
      </p:pic>
      <p:sp>
        <p:nvSpPr>
          <p:cNvPr id="44" name=""/>
          <p:cNvSpPr/>
          <p:nvPr/>
        </p:nvSpPr>
        <p:spPr>
          <a:xfrm>
            <a:off x="31258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zra A. Amsterdam et al. Circulation. 2014;130:e344-e426</a:t>
            </a:r>
            <a:endParaRPr b="0" lang="en-US" sz="1200" spc="-1" strike="noStrike">
              <a:solidFill>
                <a:srgbClr val="000000"/>
              </a:solidFill>
              <a:latin typeface="Times New Roman"/>
            </a:endParaRPr>
          </a:p>
        </p:txBody>
      </p:sp>
      <p:sp>
        <p:nvSpPr>
          <p:cNvPr id="4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