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 30-mm slab of a pseudo-colored, volume-rendered, midsystolic, 3-chamber view of the TAH-t. Please see online-only Data Supplement Movie I. A indicates anterior; F, feet/inferior; H, head/superior; P, pos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seudo-colored, volume-rendered, posterior mid-diastolic view of the moving TAH-t components. Please see online-only Data Supplement Movie II. F indicates feet/inferior; H, head/superior; L, left; R,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ouble-oblique multiplanar reformat image of thrombus in left atrial appendage. A indicates anterior; L, left; P, posterior; R,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ear-coronal double-oblique multiplanar reformat image of splenic infar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nthetic ECG-Gated Cardiac Computed Tomography for In Vivo Imaging of the Temporary Total Artificial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Michael A. Winkler, Paul F. von Herrmann, Michael A. Brooks, Charles W. Hoopes, Anil Attili, and Vincent L. Sorr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7(1):e4-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1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30-mm slab of a pseudo-colored, volume-rendered, midsystolic, 3-chamber view of the TAH-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1079640"/>
            <a:ext cx="53607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ael A. Winkler et al. Circulation. 2013;127:e4-e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seudo-colored, volume-rendered, posterior mid-diastolic view of the moving TAH-t compon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57280" y="1079640"/>
            <a:ext cx="53708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572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ael A. Winkler et al. Circulation. 2013;127:e4-e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uble-oblique multiplanar reformat image of thrombus in left atrial append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4680" y="1079640"/>
            <a:ext cx="539424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446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ael A. Winkler et al. Circulation. 2013;127:e4-e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ar-coronal double-oblique multiplanar reformat image of splenic infar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70160" y="1079640"/>
            <a:ext cx="554508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701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ael A. Winkler et al. Circulation. 2013;127:e4-e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