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onary angiogram 16 years postsurgery reveals a perfused LAD by neo vessels (</a:t>
            </a:r>
            <a:r>
              <a:rPr b="1" lang="en-GB" sz="1400" spc="-1" strike="noStrike">
                <a:solidFill>
                  <a:srgbClr val="000000"/>
                </a:solidFill>
                <a:latin typeface="Arial"/>
                <a:ea typeface="msgothic"/>
              </a:rPr>
              <a:t>arrows</a:t>
            </a:r>
            <a:r>
              <a:rPr b="0" lang="en-GB" sz="1200" spc="-1" strike="noStrike">
                <a:solidFill>
                  <a:srgbClr val="000000"/>
                </a:solidFill>
                <a:latin typeface="Arial"/>
                <a:ea typeface="msgothic"/>
              </a:rPr>
              <a:t>) arising from the muscle flap artery anastomosed to the ascending aor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yocardial perfusion measurement using a 256-row multislice computed tomography (Philips Brilliance iCT) is semiquantitatively depicted in colors, where red indicates strong perfusion, green-yellow indicates moderate perfusion, and blue depicts regions of low perfusion. As shown i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anterior wall supplied by the left anterior descending coronary artery is well perfused, whereas the septum is only moderately perfused. The apical (postinfarction) region is low perfuse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Lat indicates lateral; and Ant, anteri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ree-dimensional reconstruction of the muscle flap artery debranching into 2 separate supply vessels (</a:t>
            </a:r>
            <a:r>
              <a:rPr b="1" lang="en-GB" sz="1400" spc="-1" strike="noStrike">
                <a:solidFill>
                  <a:srgbClr val="000000"/>
                </a:solidFill>
                <a:latin typeface="Arial"/>
                <a:ea typeface="msgothic"/>
              </a:rPr>
              <a:t>arrows</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Note the massive calcification of the formerly occluded left anterior descending coronary artery (LAD,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the diagonal branch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s well as the calcified apical aneurysm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direct Myocardial Revasculariz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amiz Emini, Stephen M. Wildhirt, Peter Guilliard, Horst Brunner, Michael Beyer, and Andreas Liebol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e1-e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onary angiogram 16 years postsurgery reveals a perfused LAD by neo vessels (arrows) arising from the muscle flap artery anastomosed to the ascending aorta.</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1427040" y="1079640"/>
            <a:ext cx="7231320" cy="5394240"/>
          </a:xfrm>
          <a:prstGeom prst="rect">
            <a:avLst/>
          </a:prstGeom>
          <a:ln w="0">
            <a:noFill/>
          </a:ln>
        </p:spPr>
      </p:pic>
      <p:sp>
        <p:nvSpPr>
          <p:cNvPr id="49" name=""/>
          <p:cNvSpPr/>
          <p:nvPr/>
        </p:nvSpPr>
        <p:spPr>
          <a:xfrm>
            <a:off x="1427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iz Emini et al. Circulation. 2013;127:e1-e3</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yocardial perfusion measurement using a 256-row multislice computed tomography (Philips Brilliance iCT) is semiquantitatively depicted in colors, where red indicates strong perfusion, green-yellow indicates moderate perfusion, and blue depicts regions of low perfus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739800" y="2092320"/>
            <a:ext cx="8604360" cy="336708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iz Emini et al. Circulation. 2013;127:e1-e3</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ree-dimensional reconstruction of the muscle flap artery debranching into 2 separate supply vessels (arrows, A) Note the massive calcification of the formerly occluded left anterior descending coronary artery (LAD, A) and the diagonal branch (B), as well as the calcified apical aneurysm (A).</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907920" y="1079640"/>
            <a:ext cx="8271000" cy="5394240"/>
          </a:xfrm>
          <a:prstGeom prst="rect">
            <a:avLst/>
          </a:prstGeom>
          <a:ln w="0">
            <a:noFill/>
          </a:ln>
        </p:spPr>
      </p:pic>
      <p:sp>
        <p:nvSpPr>
          <p:cNvPr id="59" name=""/>
          <p:cNvSpPr/>
          <p:nvPr/>
        </p:nvSpPr>
        <p:spPr>
          <a:xfrm>
            <a:off x="907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iz Emini et al. Circulation. 2013;127:e1-e3</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