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tudy flow diagram detailing numbers of participants who were screened, were randomized, completed the study, and were analyzed. ALT indicates alanine aminotransfera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roup mean±SD of creatine kinase (CK; top) and alanine aminotransferase (ALT; bottom) before (Pre) and after (Post) 6 months of atorvastatin (ATOR) or placebo (PL) treatment. Brackets indicate th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value for group-by-time interaction. *Significant difference between groups within a time point at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roup mean±SD of changes in physical activity (average counts per day) by age group after 6 months of atorvastatin (ATOR) or placebo (PL) treatment. Brackets indicate th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value for treatment-by-age intera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Effect of Statins on Skeletal Muscle FunctionClinical Perspectiv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Beth A. Parker, Jeffrey A. Capizzi, Adam S. Grimaldi, Priscilla M. Clarkson, Stephanie M. Cole, Justin Keadle, Stuart Chipkin, Linda S. Pescatello, Kathleen Simpson, C. Michael White, and Paul D. Thompso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7(1):96-10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 2013</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tudy flow diagram detailing numbers of participants who were screened, were randomized, completed the study, and were analyzed.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2540160" y="1079640"/>
            <a:ext cx="5005080" cy="5394240"/>
          </a:xfrm>
          <a:prstGeom prst="rect">
            <a:avLst/>
          </a:prstGeom>
          <a:ln w="0">
            <a:noFill/>
          </a:ln>
        </p:spPr>
      </p:pic>
      <p:sp>
        <p:nvSpPr>
          <p:cNvPr id="49" name=""/>
          <p:cNvSpPr/>
          <p:nvPr/>
        </p:nvSpPr>
        <p:spPr>
          <a:xfrm>
            <a:off x="254016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eth A. Parker et al. Circulation. 2013;127:96-103</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roup mean±SD of creatine kinase (CK; top) and alanine aminotransferase (ALT; bottom) before (Pre) and after (Post) 6 months of atorvastatin (ATOR) or placebo (PL) treatment.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3279600" y="1079640"/>
            <a:ext cx="3524400" cy="5394240"/>
          </a:xfrm>
          <a:prstGeom prst="rect">
            <a:avLst/>
          </a:prstGeom>
          <a:ln w="0">
            <a:noFill/>
          </a:ln>
        </p:spPr>
      </p:pic>
      <p:sp>
        <p:nvSpPr>
          <p:cNvPr id="54" name=""/>
          <p:cNvSpPr/>
          <p:nvPr/>
        </p:nvSpPr>
        <p:spPr>
          <a:xfrm>
            <a:off x="3279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eth A. Parker et al. Circulation. 2013;127:96-103</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roup mean±SD of changes in physical activity (average counts per day) by age group after 6 months of atorvastatin (ATOR) or placebo (PL) treatment.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1744560" y="1079640"/>
            <a:ext cx="6597720" cy="5394240"/>
          </a:xfrm>
          <a:prstGeom prst="rect">
            <a:avLst/>
          </a:prstGeom>
          <a:ln w="0">
            <a:noFill/>
          </a:ln>
        </p:spPr>
      </p:pic>
      <p:sp>
        <p:nvSpPr>
          <p:cNvPr id="59" name=""/>
          <p:cNvSpPr/>
          <p:nvPr/>
        </p:nvSpPr>
        <p:spPr>
          <a:xfrm>
            <a:off x="1744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Beth A. Parker et al. Circulation. 2013;127:96-103</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