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chematic of animal experimentation in vivo. The 4 experimental periods (16, 20, 32, and 56 weeks) of high-fat diet (HFD) versus regular diet (RD) are shown. Each involved only 1 week of treatment with liraglutide (L: 30 µg/kg SC BID) or placebo (P: equal volume of 100 µL of PBS SC BID). CC indicates compound C; IHC, immunohistochemistry; IPGTT, intraperitoneal glucose tolerance test; PBS, phosphate-buffered saline; PCR, polymerase chain reaction; PV, pressure volume; TC, total cholesterol; TG, triglyceride; and TUNEL, terminal deoxynucleotidyl transferase-mediated dUTP nick end-labe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8000"/>
            <a:ext cx="5407200" cy="42796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racterization of HFD-induced obesity model.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HFD impaired glucose tolerance. After a 6-hour fast, serial tail blood glucose measurements were made before and after glucose administration (arrow, 1 g/kg IP). Obese (16HFD-P) mice showed elevated blood glucose levels versus lean controls (16RD), and versus obese mice treated with liraglutide (HFD-L) by 2-way repeated-measures ANOVA with Bonferroni-Dunn post hoc tes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001 for HFD-P versus R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01 for HFD-P versus HFD-L, n=4/group.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Insulin sensitivity in vivo was assessed by measuring insulin-induced phosphorylation of Akt (P-Akt) in cardiac tissues following an overnight fast. Heart (H) and liver (Li) extracts from PBS-treated mice served as negative controls revealing background levels of P-Akt. Insulin resulted in diminished P-Akt levels in HFD- versus RD-fed mic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by nonparametric Wilcoxon rank sum test (n=3/group).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Insulin sensitivity in cardiac and hepatic protein extracts. Liraglutide corrected the impaired insulin-induced phosphorylation of downstream targets IRS1, Akt, GSK3β, and ERK1/2 in HFD-fed mice.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HFD resulted in reduced cardiac GLUT4 levels,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by Tukey multiple comparison post hoc test, n=3 group). Confocal microscopy revealed improved insulin-induced membrane translocation of GLUT4 in cardiomyocytes of obese (16HFD) mice treated with liraglutide.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Obese (16HFD) mice have increased plasma total cholesterol (TC), but not triglyceride (TG) concentrations. TC,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001 versus R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HFD-P by Tukey multiple comparison post hoc test; TG,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NS; n=4–5/group. ANOVA indicates analysis of variance; HFD, high-fat diet; INS, insulin; NS, not significant; PBS, phosphate-buffered saline; and RD, regular di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FD-induced obesity causes increased cardiac lipid accumulation. Tissue levels of the sphingolipid ceramide were quantified in liver and heart by immunohistochemical staining, confocal microscopy, and digital image analysis. Sections of liver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heart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in which the 1</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anticeramide Ab was omitted served as negative controls for nonspecific background staining by the 2</a:t>
            </a:r>
            <a:r>
              <a:rPr b="0" lang="en-GB" sz="1200" spc="-1" strike="noStrike" baseline="33000">
                <a:solidFill>
                  <a:srgbClr val="000000"/>
                </a:solidFill>
                <a:latin typeface="Arial"/>
                <a:ea typeface="msgothic"/>
              </a:rPr>
              <a:t>o</a:t>
            </a:r>
            <a:r>
              <a:rPr b="0" lang="en-GB" sz="1200" spc="-1" strike="noStrike">
                <a:solidFill>
                  <a:srgbClr val="000000"/>
                </a:solidFill>
                <a:latin typeface="Arial"/>
                <a:ea typeface="msgothic"/>
              </a:rPr>
              <a:t>Ab (red). Ab against cardiac troponin-I (TnIc) and Hoechst were used to label cardiac myocytes (green) and nuclei (blue), respectively. Quantitative analysis of signal intensity revealed increased hepatic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nd cardiac ceramide levels after 16 (</a:t>
            </a:r>
            <a:r>
              <a:rPr b="1" lang="en-GB" sz="1400" spc="-1" strike="noStrike">
                <a:solidFill>
                  <a:srgbClr val="000000"/>
                </a:solidFill>
                <a:latin typeface="Arial"/>
                <a:ea typeface="msgothic"/>
              </a:rPr>
              <a:t>E, F</a:t>
            </a:r>
            <a:r>
              <a:rPr b="0" lang="en-GB" sz="1200" spc="-1" strike="noStrike">
                <a:solidFill>
                  <a:srgbClr val="000000"/>
                </a:solidFill>
                <a:latin typeface="Arial"/>
                <a:ea typeface="msgothic"/>
              </a:rPr>
              <a:t>) and 32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weeks of HFD. Oil red O staining also revealed increased cardiac accumulation of neutral lipids after 32 weeks of HFD (</a:t>
            </a:r>
            <a:r>
              <a:rPr b="1" lang="en-GB" sz="1400" spc="-1" strike="noStrike">
                <a:solidFill>
                  <a:srgbClr val="000000"/>
                </a:solidFill>
                <a:latin typeface="Arial"/>
                <a:ea typeface="msgothic"/>
              </a:rPr>
              <a:t>I</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J</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by nonparametric Wilcoxon rank sum test, n=4 mice/group. Ab indicates antibody; HFD, high-fat diet; NC, negative control; and RD, regular di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eatment with a weight-neutral dose of a GLP-1 analog corrected the abnormalities in cardiac signaling caused by 32 weeks of HFD. Representative Western blots of left ventricular extracts from lean mice fed a RD and obese mice fed a HFD for 32 weeks are shown. Corresponding densitometric quantifications of the fold changes in phosphorylated/total protein relative to placebo-treated RD-fed animals are shown. Liraglutide treatment (L) for 1 week (30 µg/kg SC BID) increased phosphorylation of AMPK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but not Akt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normalized phosphorylation of GSK3β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ERK1/2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in obese mice (HFD-L) in comparison with placebo-treated HFD-fed mice (HFD-P). Phosphorylation of p38-MAPK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and mTOR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did not change in response to HFD or drug treatment. Data shown are mean±SE; n=5 animals/group;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HFD-P, by Tukey multiple comparison post hoc test. AMPK indicates AMP-activated protein kinase; ERK, extracellular-signal-regulated kinase; GLP-1, glucagon-like peptide-1; GSK-3β, glycogen synthase kinase 3β; HFD, high-fat diet; mTOR, mammalian target of rapamycin; p38 MAPK, p38 mitogen-activated protein kinase; and RD, regular di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eatment with a GLP-1 analog enhanced the increased cardiac expression of ER-related proteins caused by 32 weeks of HFD.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otal RNA was isolated from ventricular tissue of mice fed either RD or HFD for 56 weeks and analyzed by RT-PCR and ethidium bromide–stained gel electrophoresis to detect unspliced (uXBP1) and spliced (sXBP1) forms of the ER-stress marker XBP1. Mouse islets treated with thapsigargin (Tg) served as a positive control.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Representative Western blots and corresponding densitometric quantification of fold changes in GAPDH-normalized expression of ER-related markers, GRP, PDI, and peIF2α are shown for mice on RD or HFD for 32 weeks. Despite enhanced signal for ER-related proteins in hearts of HFD-P and HFD-L groups at 32 weeks, no splicing of XBP1 was observed in the hearts or livers of mice after even 56 weeks of HFD. Treatment with liraglutide enhanced cardiac expression levels of these ER-stress proteins in obese mice (HFD-L) in comparison with placebo (P). Data shown are mean±SE; n=5 animals/group;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HFD-P by Tukey multiple comparison post hoc test. ANOVA indicates analysis of variance; ER, endoplasmic reticulum; GLP-1, glucagon-like peptide-1; GRP, glucose-regulated protein; HFD, high-fat diet; PDI, disulfide isomerase; peIF2α, eukaryotic translation initiation factor 2α; RD, regular diet; and RT-PCR, reverse transcription polymerase chain rea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41418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GLP-1 analog corrected the abnormal cardiac expression levels of connexin 43, eNOS, and collagen caused by 32 weeks of HFD. In obese mice fed HFD for 32 weeks, confocal immunolabeling for the cardiac gap junction protein Cx-43 (pink) in sections costained for nuclei (DAPI, blue) and α-sarcomeric actinin (green) revealed reduced abundance of Cx-43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in comparison with RD-fed contro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is abnormality was normalized by treating HFD-fed mice with liraglutide (L) for only 1 week.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Western blot for total ventricular Cx-43 revealed the same result.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HFD-induced obesity was also associated with decreased levels of cardiac eNOS, which was corrected by the GLP-1 analog.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Picrosirius red-stained heart sections were imaged with brightfield and polarized light microscopy. Perivascular collagen under brightfield appears red. Thick collagen fibers under polarized light have yellow-orange birefringence, whereas thin collagen fibrils have green birefringence. HFD increased perivascular thick collagen deposition. Lean (RD-fed) mice retain predominantly fibrillar perivascular collagen. Treatment of HFD-fed mice with liraglutide reduced perivascular collagen staining, with reduced thick collagen fiber deposition.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These histological findings were mirrored by Western blot for procollagen 1A1. Representative Western blots and corresponding densitometric quantification of fold changes in GAPDH-normalized expression of these proteins are shown. Data are mean±SE; n=5–6 animals/group;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HFD-P, by Tukey multiple comparison post hoc test. Cx-43 indicates connexin-43; DAPI, 4′,6-diamidino-2-phenylindole; eNOS, endothelial nitric oxide synthase; GLP-1, glucagon-like peptide-1; HFD, high-fat diet; and RD, regular di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GLP-1 analog reversed the expression of inflammatory markers in hearts of obese mice, which showed no evidence of apoptosis. Protein levels of activated NFκB-p65 (demonstrated by nuclear translocatio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TNF-α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were increased in hearts of placebo (P)-treated mice fed HFD for 32 weeks (HFD-P) versus lean RD-fed controls (RD-P). Liraglutide treatment decreased inflammatory markers in HFD-fed mice (HFD-L). Data shown are mean±SE; n=4–6 animals/group;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HFD-P, by Tukey multiple comparison post hoc test. Paraffin sections (6 µm) were stained for TUNEL to identify apoptotic nuclei (red). Negative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without terminal transferase) and positive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DNase I-treated) controls were included. Almost no TUNEL-positive nuclei are detectable in hearts from 32RD or 32HFD mice (</a:t>
            </a:r>
            <a:r>
              <a:rPr b="1" lang="en-GB" sz="1400" spc="-1" strike="noStrike">
                <a:solidFill>
                  <a:srgbClr val="000000"/>
                </a:solidFill>
                <a:latin typeface="Arial"/>
                <a:ea typeface="msgothic"/>
              </a:rPr>
              <a:t>E</a:t>
            </a:r>
            <a:r>
              <a:rPr b="0" lang="en-GB" sz="1200" spc="-1" strike="noStrike">
                <a:solidFill>
                  <a:srgbClr val="000000"/>
                </a:solidFill>
                <a:latin typeface="Arial"/>
                <a:ea typeface="msgothic"/>
              </a:rPr>
              <a:t>, </a:t>
            </a:r>
            <a:r>
              <a:rPr b="1" lang="en-GB" sz="1400" spc="-1" strike="noStrike">
                <a:solidFill>
                  <a:srgbClr val="000000"/>
                </a:solidFill>
                <a:latin typeface="Arial"/>
                <a:ea typeface="msgothic"/>
              </a:rPr>
              <a:t>F</a:t>
            </a:r>
            <a:r>
              <a:rPr b="0" lang="en-GB" sz="1200" spc="-1" strike="noStrike">
                <a:solidFill>
                  <a:srgbClr val="000000"/>
                </a:solidFill>
                <a:latin typeface="Arial"/>
                <a:ea typeface="msgothic"/>
              </a:rPr>
              <a:t>). Absence of apoptosis in these groups was confirmed by Western blot for cleaved caspase 3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with thapsigargin-induced apoptosis in islet cells serving as a positive control (+ctrl). GLP-1 indicates glucagon-like peptide-1; HFD, high-fat diet; NFκB: NFκB, nuclear factor kappa B; RD, regular diet; TNF-α, tumor necrosis factor-α; and TUNEL, terminal deoxynucleotidyl transferase-mediated dUTP nick end-label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raglutide improved measures of cardiac performance through an AMPK-dependent mechanism. Invasive hemodynamic measurements were obtained in mice fed RD or HFD for 20 weeks. In the final week, some animals were treated with liraglutide (L) or placebo (P), in the presence of either the AMPK inhibitor compound C (CC) or its vehicle control.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Representative steady-state PV loops from all groups are show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Maximum left ventricular systolic pressure from all group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rough </a:t>
            </a:r>
            <a:r>
              <a:rPr b="1" lang="en-GB" sz="1400" spc="-1" strike="noStrike">
                <a:solidFill>
                  <a:srgbClr val="000000"/>
                </a:solidFill>
                <a:latin typeface="Arial"/>
                <a:ea typeface="msgothic"/>
              </a:rPr>
              <a:t>G</a:t>
            </a:r>
            <a:r>
              <a:rPr b="0" lang="en-GB" sz="1200" spc="-1" strike="noStrike">
                <a:solidFill>
                  <a:srgbClr val="000000"/>
                </a:solidFill>
                <a:latin typeface="Arial"/>
                <a:ea typeface="msgothic"/>
              </a:rPr>
              <a:t>, Results of PV loop analyses showing measures of systolic (EF, ESV, dP/dtmax) and diastolic (dP/dtmin) function, including the load-independent isovolumic relaxation constant (Tau). One-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by Tukey multiple comparison post hoc test. </a:t>
            </a:r>
            <a:r>
              <a:rPr b="1" lang="en-GB" sz="1400" spc="-1" strike="noStrike">
                <a:solidFill>
                  <a:srgbClr val="000000"/>
                </a:solidFill>
                <a:latin typeface="Arial"/>
                <a:ea typeface="msgothic"/>
              </a:rPr>
              <a:t>H</a:t>
            </a:r>
            <a:r>
              <a:rPr b="0" lang="en-GB" sz="1200" spc="-1" strike="noStrike">
                <a:solidFill>
                  <a:srgbClr val="000000"/>
                </a:solidFill>
                <a:latin typeface="Arial"/>
                <a:ea typeface="msgothic"/>
              </a:rPr>
              <a:t>, Treatment with liraglutide also normalized the increased expression levels of ANP, BNP, and β-MHC observed in HFD-fed mice as determined by qRT-PCR. n=5–6/group; 1-way ANOV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ersus RD-P by Tukey multiple comparison post hoc test. AMPK indicates AMP-activated protein kinase; ANP, atrial natriuretic peptide; β-MHC, β-myosin heavy chain; BNP, brain natriuretic peptide; EF, ejection fraction; ESV, end-systolic volumes; HFD, high-fat diet; PV, pressure volume; qRT-PCR, quantitative reverse transcription polymerase chain reaction; and RD, regular di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Glucagon-Like Peptide-1 Analog Reverses the Molecular Pathology and Cardiac Dysfunction of a Mouse Model of Obesity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ohammad Hossein Noyan-Ashraf, Eric Akihiko Shikatani, Irmgard Schuiki, Ilya Mukovozov, Jun Wu, Ren-Ke Li, Allen Volchuk, Lisa Annette Robinson, Filio Billia, Daniel J. Drucker, and Mansoor Husa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74-8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chematic of animal experimentation in vivo.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812880" y="1079640"/>
            <a:ext cx="8459640" cy="5394240"/>
          </a:xfrm>
          <a:prstGeom prst="rect">
            <a:avLst/>
          </a:prstGeom>
          <a:ln w="0">
            <a:noFill/>
          </a:ln>
        </p:spPr>
      </p:pic>
      <p:sp>
        <p:nvSpPr>
          <p:cNvPr id="49" name=""/>
          <p:cNvSpPr/>
          <p:nvPr/>
        </p:nvSpPr>
        <p:spPr>
          <a:xfrm>
            <a:off x="812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racterization of HFD-induced obesity model.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2981160" y="1079640"/>
            <a:ext cx="4123080" cy="5394240"/>
          </a:xfrm>
          <a:prstGeom prst="rect">
            <a:avLst/>
          </a:prstGeom>
          <a:ln w="0">
            <a:noFill/>
          </a:ln>
        </p:spPr>
      </p:pic>
      <p:sp>
        <p:nvSpPr>
          <p:cNvPr id="54" name=""/>
          <p:cNvSpPr/>
          <p:nvPr/>
        </p:nvSpPr>
        <p:spPr>
          <a:xfrm>
            <a:off x="298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FD-induced obesity causes increased cardiac lipid accumul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3059280" y="1079640"/>
            <a:ext cx="3965400" cy="5394240"/>
          </a:xfrm>
          <a:prstGeom prst="rect">
            <a:avLst/>
          </a:prstGeom>
          <a:ln w="0">
            <a:noFill/>
          </a:ln>
        </p:spPr>
      </p:pic>
      <p:sp>
        <p:nvSpPr>
          <p:cNvPr id="59" name=""/>
          <p:cNvSpPr/>
          <p:nvPr/>
        </p:nvSpPr>
        <p:spPr>
          <a:xfrm>
            <a:off x="30592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eatment with a weight-neutral dose of a GLP-1 analog corrected the abnormalities in cardiac signaling caused by 32 weeks of HFD. Representative Western blots of left ventricular extracts from lean mice fed a RD and obese mice fed a HFD for 32 weeks are show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732040" y="1079640"/>
            <a:ext cx="4621320" cy="5394240"/>
          </a:xfrm>
          <a:prstGeom prst="rect">
            <a:avLst/>
          </a:prstGeom>
          <a:ln w="0">
            <a:noFill/>
          </a:ln>
        </p:spPr>
      </p:pic>
      <p:sp>
        <p:nvSpPr>
          <p:cNvPr id="64" name=""/>
          <p:cNvSpPr/>
          <p:nvPr/>
        </p:nvSpPr>
        <p:spPr>
          <a:xfrm>
            <a:off x="2732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11286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eatment with a GLP-1 analog enhanced the increased cardiac expression of ER-related proteins caused by 32 weeks of HFD. A, Total RNA was isolated from ventricular tissue of mice fed either RD or HFD for 56 weeks and analyzed by RT-PCR and ethidium bromide–stained gel electrophoresis to detect unspliced (uXBP1) and spliced (sXBP1) forms of the ER-stress marker XBP1.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311560" y="1079640"/>
            <a:ext cx="5460840" cy="5394240"/>
          </a:xfrm>
          <a:prstGeom prst="rect">
            <a:avLst/>
          </a:prstGeom>
          <a:ln w="0">
            <a:noFill/>
          </a:ln>
        </p:spPr>
      </p:pic>
      <p:sp>
        <p:nvSpPr>
          <p:cNvPr id="69" name=""/>
          <p:cNvSpPr/>
          <p:nvPr/>
        </p:nvSpPr>
        <p:spPr>
          <a:xfrm>
            <a:off x="23115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11286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GLP-1 analog corrected the abnormal cardiac expression levels of connexin 43, eNOS, and collagen caused by 32 weeks of HFD. In obese mice fed HFD for 32 weeks, confocal immunolabeling for the cardiac gap junction protein Cx-43 (pink) in sections costained for nuclei (DAPI, blue) and α-sarcomeric actinin (green) revealed reduced abundance of Cx-43 (B) in comparison with RD-fed controls (A).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3200400" y="1079640"/>
            <a:ext cx="3683160" cy="5394240"/>
          </a:xfrm>
          <a:prstGeom prst="rect">
            <a:avLst/>
          </a:prstGeom>
          <a:ln w="0">
            <a:noFill/>
          </a:ln>
        </p:spPr>
      </p:pic>
      <p:sp>
        <p:nvSpPr>
          <p:cNvPr id="74" name=""/>
          <p:cNvSpPr/>
          <p:nvPr/>
        </p:nvSpPr>
        <p:spPr>
          <a:xfrm>
            <a:off x="3200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GLP-1 analog reversed the expression of inflammatory markers in hearts of obese mice, which showed no evidence of apoptosi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3135240" y="1079640"/>
            <a:ext cx="3814920" cy="5394240"/>
          </a:xfrm>
          <a:prstGeom prst="rect">
            <a:avLst/>
          </a:prstGeom>
          <a:ln w="0">
            <a:noFill/>
          </a:ln>
        </p:spPr>
      </p:pic>
      <p:sp>
        <p:nvSpPr>
          <p:cNvPr id="79" name=""/>
          <p:cNvSpPr/>
          <p:nvPr/>
        </p:nvSpPr>
        <p:spPr>
          <a:xfrm>
            <a:off x="3135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raglutide improved measures of cardiac performance through an AMPK-dependent mechanism.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488880" y="6861240"/>
            <a:ext cx="1389240" cy="561960"/>
          </a:xfrm>
          <a:prstGeom prst="rect">
            <a:avLst/>
          </a:prstGeom>
          <a:ln w="0">
            <a:noFill/>
          </a:ln>
        </p:spPr>
      </p:pic>
      <p:pic>
        <p:nvPicPr>
          <p:cNvPr id="83" name="" descr=""/>
          <p:cNvPicPr/>
          <p:nvPr/>
        </p:nvPicPr>
        <p:blipFill>
          <a:blip r:embed="rId2"/>
          <a:stretch/>
        </p:blipFill>
        <p:spPr>
          <a:xfrm>
            <a:off x="2959200" y="1079640"/>
            <a:ext cx="4168800" cy="5394240"/>
          </a:xfrm>
          <a:prstGeom prst="rect">
            <a:avLst/>
          </a:prstGeom>
          <a:ln w="0">
            <a:noFill/>
          </a:ln>
        </p:spPr>
      </p:pic>
      <p:sp>
        <p:nvSpPr>
          <p:cNvPr id="84" name=""/>
          <p:cNvSpPr/>
          <p:nvPr/>
        </p:nvSpPr>
        <p:spPr>
          <a:xfrm>
            <a:off x="2959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ohammad Hossein Noyan-Ashraf et al. Circulation. 2013;127:74-85</a:t>
            </a:r>
            <a:endParaRPr b="0" lang="en-US" sz="1200" spc="-1" strike="noStrike">
              <a:solidFill>
                <a:srgbClr val="000000"/>
              </a:solidFill>
              <a:latin typeface="Times New Roman"/>
            </a:endParaRPr>
          </a:p>
        </p:txBody>
      </p:sp>
      <p:sp>
        <p:nvSpPr>
          <p:cNvPr id="8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