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43131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MD3100 treatment improves cardiac function and reduces infarct size after ischemia/reperfusion (IR) injury. Mice were treated with saline alone or with 100 μL saline containing 125 μg AMD3100 after surgically induced IR injury.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rea at risk (AAR) and infarct size were evaluated 3 days after IR injury via in vivo microsphere perfusion and triphenyltetrazolium chloride staining.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Viable tissue stained deep red, and the infarcted region is colorless. Scale=1-mm increment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AAR was identified by the absence of microspheres and is presented as a percentage of the total left ventricular (LV) area.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Infarct size was normalized to the size of the AAR and presented as a percentage.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poptosis was evaluated in terminal deoxynucleotidyl transferase dUTP nick-end labeling (TUNEL)–stained sections of heart tissue from mice euthanized 1 and 3 days after IR injury. Scale bar=100 μm.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Fibrosis was evaluated in Masson trichrome–stained heart sections from mice euthanized 28 days after IR injury, quantified as the ratio of the length of fibrosis (blue) to the LV circumference, and presented as a percentage.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Echocardiographic assessments of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LV fractional shortening (FS),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LV systolic area (LVAs), and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LV diastolic area (LVAd) were performed before IR injury and 7 to 28 days afterward; heart rates were maintained at 400 to 500 bpm via isoflurane inhalatio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before injectio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n=3 per treatment group;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n=3 to 5 per treatment group;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n=6 to 9 per treatment group;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n=10 per treatment group at each time point. a-SA indicates α-sarcomeric actin; and HPF, high-power fiel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sa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40734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MD3100 enhances the mobilization of circulating CXC-chemokine receptor 4–positive (CXCR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ononuclear cells (MNCs) and Sca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Fl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after ischemia/reperfusion (IR) injury.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Peripheral blood (PB) levels of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MNC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CXCR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NCs, an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sca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fl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were determined in uninjured mice before injection of AMD3100 (125 μg in100 μL saline) and from 1 to 24 hours afterward.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PB levels of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MNCs,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CXCR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NCs, and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sca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fl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were determined in mice before IR injury and treatment with AMD3100 or saline and from 1 to 28 days afterward. MNC levels were measured with a HemaVet hematology system, and the levels of CXCR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NCs and sca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fl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were measured via fluorescence-activated cell sorter analyses of MNCs labeled with fluorescent CXCR4 antibodies (CXCR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NCs) or double-labeled with fluorescent Sca1 antibodies and Flk1 antibodies.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IR injury was surgically induced in wild-type mice that had been transplanted with bone marrow (BM) from mice with Tie2-regulated green fluorescent protein (GFP) expression. Mice were treated with AMD3100 or saline after injury, and the number of GFP</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BM cells was determined 5 days later. Scale bar=100 μm.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n=3;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n=3 to 5 per treatment group at each time point;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n=8 per treatment group. The SEMs are too small to be visible graphically 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hour 1;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hours 1 and 24;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before IR, day 7 (saline), and day 28; and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day 7 (saline) and day 28.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before injection/IR;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sal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MD3100 increases capillary density and the number of bone marrow (BM)–derived endothelial cells in the myocardium after ischemia/reperfusion (IR) injury. AMD3100 or saline was subcutaneously injected after IR injury in wild-type mice that had been transplanted with BM from green fluorescent protein (GFP)–expressing mic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BM-derived (ie, GFP-expressing) cells (green) were identified in the area at risk (AAR) and quantified on days 1, 3, and 28 after injury. Scale bar=100 μm.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On day 28 after IR injury, mice were perfused with BS1-lectin before death, and sections from the AAR were stained with fluorescent anti-lectin antibodie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BM-derived endothelial cells (ECs) were quantified as the number of cells positive for both GFP expression and lectin staining. Scale bar=100 μm.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BM-derived cells (green, GFP fluorescence) and functional vascular structures (red, lectin fluorescence) were identified in the AAR, and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capillary density was quantified as the number of lectin</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vascular structure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n=3 to 6 per treatment group at each time point;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n=3 to 4 per treatment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sal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MD3100 increases bone marrow (BM) endothelial nitric oxide synthase (eNOS) expression and the number of eNOS-expressing BM-derived cells in the area at risk (AAR) after ischemia/reperfusion (IR) injury. AMD3100 or saline was subcutaneously injected after IR injury 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wild-type (WT) mice and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WT mice that had been transplanted with BM from green fluorescent protein (GFP)–expressing mic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BM was harvested from mice euthanized before IR injury and from 1 to 14 days afterward.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BM cells were labeled with fluorescent anti-eNOS antibodies (red), and eNOS</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were quantified. Scale bar=100 μm.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BM plasma levels of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matrix metalloproteinase-9 (MMP-9) an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soluble Kit ligand (sKitL) protein were determined via ELISA.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Peripheral blood (PB) levels of nitrate and nitrite were determined via colorimetric assay before IR injury and 1 to 14 days afterward.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eNOS (red) and GFP (green) expression was evaluated in sections from the AAR of mice euthanized 3 days after IR injury. Scale bar=20 μm. Cells positive for the expression of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eNOS,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GFP, or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both eNOS and GFP were quantified.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n=4 to 8 per treatment group at each time point;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n=3 to 5 per treatment group. HPF indicates high-power fiel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before injectio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sa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8000"/>
            <a:ext cx="5407200" cy="68752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benefit of AMD3100 treatment after ischemia/reperfusion (IR) injury is dependent on endothelial nitric oxide synthase (eNOS) expression in the bone marrow (BM) but not in the ischemic tissue. AMD3100 or saline was subcutaneously injected after IR injury in eNOS-knockout mice that had been transplanted with BM from wild-type (WT) mice (eNOS-KO/WT</a:t>
            </a:r>
            <a:r>
              <a:rPr b="0" lang="en-GB" sz="1200" spc="-1" strike="noStrike" baseline="-33000">
                <a:solidFill>
                  <a:srgbClr val="000000"/>
                </a:solidFill>
                <a:latin typeface="Arial"/>
                <a:ea typeface="msgothic"/>
              </a:rPr>
              <a:t>BM</a:t>
            </a:r>
            <a:r>
              <a:rPr b="0" lang="en-GB" sz="1200" spc="-1" strike="noStrike">
                <a:solidFill>
                  <a:srgbClr val="000000"/>
                </a:solidFill>
                <a:latin typeface="Arial"/>
                <a:ea typeface="msgothic"/>
              </a:rPr>
              <a:t>), in WT mice transplanted with BM from eNOS-KO mice (WT/eNOS-KO</a:t>
            </a:r>
            <a:r>
              <a:rPr b="0" lang="en-GB" sz="1200" spc="-1" strike="noStrike" baseline="-33000">
                <a:solidFill>
                  <a:srgbClr val="000000"/>
                </a:solidFill>
                <a:latin typeface="Arial"/>
                <a:ea typeface="msgothic"/>
              </a:rPr>
              <a:t>BM</a:t>
            </a:r>
            <a:r>
              <a:rPr b="0" lang="en-GB" sz="1200" spc="-1" strike="noStrike">
                <a:solidFill>
                  <a:srgbClr val="000000"/>
                </a:solidFill>
                <a:latin typeface="Arial"/>
                <a:ea typeface="msgothic"/>
              </a:rPr>
              <a:t>), and in WT mice transplanted with WT BM (WT/WT</a:t>
            </a:r>
            <a:r>
              <a:rPr b="0" lang="en-GB" sz="1200" spc="-1" strike="noStrike" baseline="-33000">
                <a:solidFill>
                  <a:srgbClr val="000000"/>
                </a:solidFill>
                <a:latin typeface="Arial"/>
                <a:ea typeface="msgothic"/>
              </a:rPr>
              <a:t>BM</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Echocardiographic assessments of left ventricular fractional shortening (LV FS) were performed before IR injury and 7 to 28 days afterward.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BM was harvested 3 days after IR injury.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BM cells were labeled with fluorescent anti-eNOS antibodies, and positively stained cells were quantified.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BM plasma levels of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matrix metalloproteinase-9 (MMP-9) and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soluble Kit ligand (sKitL) protein were determined via ELISA.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Three days after IR injury, mononuclear cells (MNCs) were isolated from the peripheral blood (PB) and labeled with fluorescent anti-Sca1 and anti-Flk1 antibodies, and the number of MNCs positive for both Sca1 and Flk1 expression was determined via fluorescence-activated cell sorting (FACS) analysis.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Sections from the area at risk (AAR) of mice euthanized on day 3 after IR injury were stained with terminal deoxynucleotidyl transferase dUTP nick-end labeling (TUNEL), and apoptosis was quantified as the number of positively stained cells. </a:t>
            </a:r>
            <a:r>
              <a:rPr b="1" lang="en-GB" sz="1400" spc="-1" strike="noStrike">
                <a:solidFill>
                  <a:srgbClr val="000000"/>
                </a:solidFill>
                <a:latin typeface="Arial"/>
                <a:ea typeface="msgothic"/>
              </a:rPr>
              <a:t>I</a:t>
            </a:r>
            <a:r>
              <a:rPr b="0" lang="en-GB" sz="1200" spc="-1" strike="noStrike">
                <a:solidFill>
                  <a:srgbClr val="000000"/>
                </a:solidFill>
                <a:latin typeface="Arial"/>
                <a:ea typeface="msgothic"/>
              </a:rPr>
              <a:t>, Infarct size and AAR were assessed via in vivo microsphere perfusion and triphenyltetrazolium chloride staining in mice euthanized on day 3 after IR injury; the ratio of the area of the infarct to the AAR was presented as a percentage. </a:t>
            </a:r>
            <a:r>
              <a:rPr b="1" lang="en-GB" sz="1400" spc="-1" strike="noStrike">
                <a:solidFill>
                  <a:srgbClr val="000000"/>
                </a:solidFill>
                <a:latin typeface="Arial"/>
                <a:ea typeface="msgothic"/>
              </a:rPr>
              <a:t>J</a:t>
            </a:r>
            <a:r>
              <a:rPr b="0" lang="en-GB" sz="1200" spc="-1" strike="noStrike">
                <a:solidFill>
                  <a:srgbClr val="000000"/>
                </a:solidFill>
                <a:latin typeface="Arial"/>
                <a:ea typeface="msgothic"/>
              </a:rPr>
              <a:t>, Fibrosis on day 28 after IR injury was assessed in Masson trichrome–stained heart sections, quantified as the ratio of the length of fibrosis to the left ventricular circumference, and presented as a percentage. </a:t>
            </a:r>
            <a:r>
              <a:rPr b="1" lang="en-GB" sz="1400" spc="-1" strike="noStrike">
                <a:solidFill>
                  <a:srgbClr val="000000"/>
                </a:solidFill>
                <a:latin typeface="Arial"/>
                <a:ea typeface="msgothic"/>
              </a:rPr>
              <a:t>K</a:t>
            </a:r>
            <a:r>
              <a:rPr b="0" lang="en-GB" sz="1200" spc="-1" strike="noStrike">
                <a:solidFill>
                  <a:srgbClr val="000000"/>
                </a:solidFill>
                <a:latin typeface="Arial"/>
                <a:ea typeface="msgothic"/>
              </a:rPr>
              <a:t>, Capillary density was assessed in mice that had been perfused with BS1-lectin before death on day 28 after IR injury and quantified as the number of lectin</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vascular structures. </a:t>
            </a:r>
            <a:r>
              <a:rPr b="1" lang="en-GB" sz="1400" spc="-1" strike="noStrike">
                <a:solidFill>
                  <a:srgbClr val="000000"/>
                </a:solidFill>
                <a:latin typeface="Arial"/>
                <a:ea typeface="msgothic"/>
              </a:rPr>
              <a:t>L</a:t>
            </a:r>
            <a:r>
              <a:rPr b="0" lang="en-GB" sz="1200" spc="-1" strike="noStrike">
                <a:solidFill>
                  <a:srgbClr val="000000"/>
                </a:solidFill>
                <a:latin typeface="Arial"/>
                <a:ea typeface="msgothic"/>
              </a:rPr>
              <a:t>, MNCs were harvested from the PB on day 1 (d1) and day 3 (d3) after IR injury and labeled with fluorescent anti-CXCR4 antibodies, and the number of CXCR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NCs was determined via FAC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n=4 to 8 per treatment group at each time point;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n=3 to 4 per treatment group;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n=4 to 8 per treatment group;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n=5 to 9 per treatment group;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J</a:t>
            </a:r>
            <a:r>
              <a:rPr b="0" lang="en-GB" sz="1200" spc="-1" strike="noStrike">
                <a:solidFill>
                  <a:srgbClr val="000000"/>
                </a:solidFill>
                <a:latin typeface="Arial"/>
                <a:ea typeface="msgothic"/>
              </a:rPr>
              <a:t>, n=3 to 6 per treatment group; </a:t>
            </a:r>
            <a:r>
              <a:rPr b="1" lang="en-GB" sz="1400" spc="-1" strike="noStrike">
                <a:solidFill>
                  <a:srgbClr val="000000"/>
                </a:solidFill>
                <a:latin typeface="Arial"/>
                <a:ea typeface="msgothic"/>
              </a:rPr>
              <a:t>K</a:t>
            </a:r>
            <a:r>
              <a:rPr b="0" lang="en-GB" sz="1200" spc="-1" strike="noStrike">
                <a:solidFill>
                  <a:srgbClr val="000000"/>
                </a:solidFill>
                <a:latin typeface="Arial"/>
                <a:ea typeface="msgothic"/>
              </a:rPr>
              <a:t>, n=3 per treatment group; </a:t>
            </a:r>
            <a:r>
              <a:rPr b="1" lang="en-GB" sz="1400" spc="-1" strike="noStrike">
                <a:solidFill>
                  <a:srgbClr val="000000"/>
                </a:solidFill>
                <a:latin typeface="Arial"/>
                <a:ea typeface="msgothic"/>
              </a:rPr>
              <a:t>L</a:t>
            </a:r>
            <a:r>
              <a:rPr b="0" lang="en-GB" sz="1200" spc="-1" strike="noStrike">
                <a:solidFill>
                  <a:srgbClr val="000000"/>
                </a:solidFill>
                <a:latin typeface="Arial"/>
                <a:ea typeface="msgothic"/>
              </a:rPr>
              <a:t>, n=3 to 6 per treatment group at each time point. The SEM is too small to be visible graphically for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day 7 (saline). HPF indicates high-power field.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before injection;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sali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450684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xpression of endothelial nitric oxide synthase (eNOS) by circulating bone marrow progenitor cells (BMPCs) contributes to myocardial recovery.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BMPCs from wild-type (WT) mice, BMPCs from eNOS-knockout (KO) mice, or saline was intravenously injected into WT mice 24 hours after ischemia/reperfusion (IR) injury. Echocardiographic assessments of left ventricular fractional shortening (LV FS) were performed before IR injury and 7 to 28 days afterwar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DiI-labeled WT BMPCs, DiI-labeled eNOS-KO BMPCs, or saline was intravenously injected into WT mice 24 hours after IR injury, along with treatment with subcutaneous injections of AMD3100 or saline. Mice were euthanized 2 days later (ie, 3 days after IR injury). §Bonferroni-adjuste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salin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before injectio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Incorporation of the injected cells was evaluated by quantifying the number of DiI-positive cells in the area at risk (AAR). Scale bar=100 μm.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Sections from the AAR were stained with terminal deoxynucleotidyl transferase dUTP nick-end labeling (TUNEL; green), stained with fluorescent anti–α-sarcomeric actin (a-SA) antibodies (red), and counterstained with DAPI (blue). Scale bar=100 μm. Apoptosis was quantified as the number of TUNEL</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Infarct size and AAR were assessed via in vivo microsphere perfusion and triphenyltetrazolium chloride staining; viable tissue appears deep red and the infarcted region is colorless. The ratio of the area of the infarct to the AAR was presented as a percentag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a:t>
            </a:r>
            <a:r>
              <a:rPr b="0" lang="en-GB" sz="1200" spc="-1" strike="noStrike" baseline="33000">
                <a:solidFill>
                  <a:srgbClr val="000000"/>
                </a:solidFill>
                <a:latin typeface="Arial"/>
                <a:ea typeface="msgothic"/>
              </a:rPr>
              <a:t>#</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nd </a:t>
            </a:r>
            <a:r>
              <a:rPr b="0" lang="en-GB" sz="1200" spc="-1" strike="noStrike" baseline="33000">
                <a:solidFill>
                  <a:srgbClr val="000000"/>
                </a:solidFill>
                <a:latin typeface="Arial"/>
                <a:ea typeface="msgothic"/>
              </a:rPr>
              <a:t>##</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vs the same intravenous injection (ie, saline, WT BMPCs, or eNOS-KO BMPCs) in animals treated with subcutaneous injections of salin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n=4 to 5 per treatment group at each time point;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n=3 to 5 per group;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n=3 to 7 per group;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n=4 to 7 per group. acLDL indicates acetylated low-density lipoprotein; and HPF, high-power fiel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XC-Chemokine Receptor 4 Antagonist AMD3100 Promotes Cardiac Functional Recovery After Ischemia/Reperfusion Injury via Endothelial Nitric Oxide Synthase–Dependent Mechanism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entaro Jujo, Masaaki Ii, Haruki Sekiguchi, Ekaterina Klyachko, Sol Misener, Toshikazu Tanaka, Jörn Tongers, Jérôme Roncalli, Marie-Ange Renault, Tina Thorne, Aiko Ito, Trevor Clarke, Christine Kamide, Yukio Tsurumi, Nobuhisa Hagiwara, Gangjian Qin, Michio Asahi, and Douglas W. Losord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63-7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MD3100 treatment improves cardiac function and reduces infarct size after ischemia/reperfusion (IR) injury.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2946240" y="1079640"/>
            <a:ext cx="4194360" cy="5394240"/>
          </a:xfrm>
          <a:prstGeom prst="rect">
            <a:avLst/>
          </a:prstGeom>
          <a:ln w="0">
            <a:noFill/>
          </a:ln>
        </p:spPr>
      </p:pic>
      <p:sp>
        <p:nvSpPr>
          <p:cNvPr id="49" name=""/>
          <p:cNvSpPr/>
          <p:nvPr/>
        </p:nvSpPr>
        <p:spPr>
          <a:xfrm>
            <a:off x="2946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taro Jujo et al. Circulation. 2013;127:63-73</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MD3100 enhances the mobilization of circulating CXC-chemokine receptor 4–positive (CXCR4+) mononuclear cells (MNCs) and Sca1+/Flk1+ cells after ischemia/reperfusion (IR) injur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3147840" y="1079640"/>
            <a:ext cx="3789360" cy="5394240"/>
          </a:xfrm>
          <a:prstGeom prst="rect">
            <a:avLst/>
          </a:prstGeom>
          <a:ln w="0">
            <a:noFill/>
          </a:ln>
        </p:spPr>
      </p:pic>
      <p:sp>
        <p:nvSpPr>
          <p:cNvPr id="54" name=""/>
          <p:cNvSpPr/>
          <p:nvPr/>
        </p:nvSpPr>
        <p:spPr>
          <a:xfrm>
            <a:off x="3147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taro Jujo et al. Circulation. 2013;127:63-73</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MD3100 increases capillary density and the number of bone marrow (BM)–derived endothelial cells in the myocardium after ischemia/reperfusion (IR) injury.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1681200" y="1079640"/>
            <a:ext cx="6724440" cy="5394240"/>
          </a:xfrm>
          <a:prstGeom prst="rect">
            <a:avLst/>
          </a:prstGeom>
          <a:ln w="0">
            <a:noFill/>
          </a:ln>
        </p:spPr>
      </p:pic>
      <p:sp>
        <p:nvSpPr>
          <p:cNvPr id="59" name=""/>
          <p:cNvSpPr/>
          <p:nvPr/>
        </p:nvSpPr>
        <p:spPr>
          <a:xfrm>
            <a:off x="1681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taro Jujo et al. Circulation. 2013;127:63-73</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MD3100 increases bone marrow (BM) endothelial nitric oxide synthase (eNOS) expression and the number of eNOS-expressing BM-derived cells in the area at risk (AAR) after ischemia/reperfusion (IR) injur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2633760" y="1079640"/>
            <a:ext cx="4817880" cy="5394240"/>
          </a:xfrm>
          <a:prstGeom prst="rect">
            <a:avLst/>
          </a:prstGeom>
          <a:ln w="0">
            <a:noFill/>
          </a:ln>
        </p:spPr>
      </p:pic>
      <p:sp>
        <p:nvSpPr>
          <p:cNvPr id="64" name=""/>
          <p:cNvSpPr/>
          <p:nvPr/>
        </p:nvSpPr>
        <p:spPr>
          <a:xfrm>
            <a:off x="2633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taro Jujo et al. Circulation. 2013;127:63-73</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benefit of AMD3100 treatment after ischemia/reperfusion (IR) injury is dependent on endothelial nitric oxide synthase (eNOS) expression in the bone marrow (BM) but not in the ischemic tissu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2747880" y="1079640"/>
            <a:ext cx="4587840" cy="5394240"/>
          </a:xfrm>
          <a:prstGeom prst="rect">
            <a:avLst/>
          </a:prstGeom>
          <a:ln w="0">
            <a:noFill/>
          </a:ln>
        </p:spPr>
      </p:pic>
      <p:sp>
        <p:nvSpPr>
          <p:cNvPr id="69" name=""/>
          <p:cNvSpPr/>
          <p:nvPr/>
        </p:nvSpPr>
        <p:spPr>
          <a:xfrm>
            <a:off x="2747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taro Jujo et al. Circulation. 2013;127:63-73</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xpression of endothelial nitric oxide synthase (eNOS) by circulating bone marrow progenitor cells (BMPCs) contributes to myocardial recovery.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2849400" y="1079640"/>
            <a:ext cx="4388040" cy="5394240"/>
          </a:xfrm>
          <a:prstGeom prst="rect">
            <a:avLst/>
          </a:prstGeom>
          <a:ln w="0">
            <a:noFill/>
          </a:ln>
        </p:spPr>
      </p:pic>
      <p:sp>
        <p:nvSpPr>
          <p:cNvPr id="74" name=""/>
          <p:cNvSpPr/>
          <p:nvPr/>
        </p:nvSpPr>
        <p:spPr>
          <a:xfrm>
            <a:off x="2849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taro Jujo et al. Circulation. 2013;127:63-73</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