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udy outline. Ninety probands with hypertrophic cardiomyopathy (HCM) and 361 relatives were included. Sixty-six relatives and 4 probands were &lt;18 years of age. G− indicates genetically tested child relatives not carrying the disease-causing gene mutation (see Methods) identified in their family (ie, noncarriers or control subjects); G+, genetically tested child relatives carrying the disease-causing gene mutation identified in their family; and G null, child relatives from genetically tested families in whom a disease-causing gene mutation was not identified. White boxes represent study subgroups at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chocardiographic images of 2 carriers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YH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utation at follow-up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ge 23 years; maximal wall thickness (MWT) = 9 mm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ge 27 years; MWT = 17 mm. Left, Parasternal long-axis view. Right, Sagittal axis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ge-related penetrance of hypertrophic cardiomyopathy (HCM) in sarcomere gene mutation carriers (carriers) and child relatives with unknown genetic status (unkn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netrance of Hypertrophic Cardiomyopathy in Children and Adolescents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orten K. Jensen, Ole Havndrup, Michael Christiansen, Paal S. Andersen, Birgitte Diness, Anna Axelsson, Flemming Skovby, Lars Køber, and Henning Bundga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7(1):48-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1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udy outl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9560" y="1079640"/>
            <a:ext cx="81262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95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ten K. Jensen et al. Circulation. 2013;127:48-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hocardiographic images of 2 carriers with MYH7 mutation at follow-u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46000" y="1079640"/>
            <a:ext cx="83934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46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ten K. Jensen et al. Circulation. 2013;127:48-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ge-related penetrance of hypertrophic cardiomyopathy (HCM) in sarcomere gene mutation carriers (carriers) and child relatives with unknown genetic status (unknow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68400" y="1079640"/>
            <a:ext cx="81471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68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ten K. Jensen et al. Circulation. 2013;127:48-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