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hematic representation of major channelopathy genes. The thick exterior line represents the cellular membrane. Long QT genes are green; Brugada genes are blue; arrhythmogenic right ventricular cardiomyopathy genes are red; catecholaminergic polymorphic ventricular tachycardia genes are yellow. Color coding represents the major clinical associations of each gene; however, many genes have been associated with multiple diseases. For exampl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ACNA1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s associated with Brugada syndrome but also is mutated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QT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N5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s associated with both long QT and Brugada syndr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Update on Channelopat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Gregory Webster, and Charles I. Ber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7(1):126-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1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tic representation of major channelopathy ge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32040" y="1079640"/>
            <a:ext cx="82213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3204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egory Webster, and Charles I. Berul Circulation. 2013;127:126-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