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valuation of myosin light chain (MLC) phosphorylation with Phos-tag SDS-PAG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Immunoblot detection of the purified MLC with and without phosphorylation by MLC kinase (MLCK) and the lysates of porcine coronary artery smooth muscle cells (VSMC) with the anti-MLC antibody (total MLC) and the antibodies specific to the monophosphorylated MLC (P-MLC</a:t>
            </a:r>
            <a:r>
              <a:rPr b="0" lang="en-GB" sz="1200" spc="-1" strike="noStrike" baseline="33000">
                <a:solidFill>
                  <a:srgbClr val="000000"/>
                </a:solidFill>
                <a:latin typeface="Arial"/>
                <a:ea typeface="msgothic"/>
              </a:rPr>
              <a:t>Ser19</a:t>
            </a:r>
            <a:r>
              <a:rPr b="0" lang="en-GB" sz="1200" spc="-1" strike="noStrike">
                <a:solidFill>
                  <a:srgbClr val="000000"/>
                </a:solidFill>
                <a:latin typeface="Arial"/>
                <a:ea typeface="msgothic"/>
              </a:rPr>
              <a:t>) and diphosphorylated MLC (PP-MLC</a:t>
            </a:r>
            <a:r>
              <a:rPr b="0" lang="en-GB" sz="1200" spc="-1" strike="noStrike" baseline="33000">
                <a:solidFill>
                  <a:srgbClr val="000000"/>
                </a:solidFill>
                <a:latin typeface="Arial"/>
                <a:ea typeface="msgothic"/>
              </a:rPr>
              <a:t>Thr18+Ser19</a:t>
            </a:r>
            <a:r>
              <a:rPr b="0" lang="en-GB" sz="1200" spc="-1" strike="noStrike">
                <a:solidFill>
                  <a:srgbClr val="000000"/>
                </a:solidFill>
                <a:latin typeface="Arial"/>
                <a:ea typeface="msgothic"/>
              </a:rPr>
              <a:t>), after Phos-tag SDS-PAGE. The cell lysates were obtained 2 minutes after the stimulation of cells with 1 U/mL of thrombi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time courses of MLC phosphorylation induced by 1 U/mL of thrombin (n=3) and 100 nmol/L of endothelin 1 (n=3) were analyzed with Phos-tag SDS-PAGE, followed by immunoblot detection with the anti-MLC antibody. Representative immunoblot images of β-actin are shown below those for MLC detection.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Studen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ircadian changes in the thrombin-induced phosphorylation of myosin light chain (MLC) in porcine coronary artery smooth muscle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representative immunoblots and summaries of the circadian changes in the MLC phosphorylation as analyzed by Phos-tag SDS-PAG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n=3 for thrombin [+], n=5 for thrombin [−]) and conventional SDS-PAGE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n=3). A maximum of 13 samples could be analyzed in 1 gel. The vertical bars between immunoblot images indicate the border between different gel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mean values of MLC phosphorylation in A were subjected to an analysis of frequency with an autoregressive model. The samples were obtained befor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2 minutes after the stimulation with 1 U/mL of thrombin (A and C) at the indicated times after synchronization of the circadian rhythm. The immunoblot detection was performed with the anti-MLC antibody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or antibodies specific for the MLC monophosphorylated (P-MLC</a:t>
            </a:r>
            <a:r>
              <a:rPr b="0" lang="en-GB" sz="1200" spc="-1" strike="noStrike" baseline="33000">
                <a:solidFill>
                  <a:srgbClr val="000000"/>
                </a:solidFill>
                <a:latin typeface="Arial"/>
                <a:ea typeface="msgothic"/>
              </a:rPr>
              <a:t>Ser19</a:t>
            </a:r>
            <a:r>
              <a:rPr b="0" lang="en-GB" sz="1200" spc="-1" strike="noStrike">
                <a:solidFill>
                  <a:srgbClr val="000000"/>
                </a:solidFill>
                <a:latin typeface="Arial"/>
                <a:ea typeface="msgothic"/>
              </a:rPr>
              <a:t>) and the MLC diphosphorylated (PP-MLC</a:t>
            </a:r>
            <a:r>
              <a:rPr b="0" lang="en-GB" sz="1200" spc="-1" strike="noStrike" baseline="33000">
                <a:solidFill>
                  <a:srgbClr val="000000"/>
                </a:solidFill>
                <a:latin typeface="Arial"/>
                <a:ea typeface="msgothic"/>
              </a:rPr>
              <a:t>Thr18+Ser19</a:t>
            </a:r>
            <a:r>
              <a:rPr b="0" lang="en-GB" sz="1200" spc="-1" strike="noStrike">
                <a:solidFill>
                  <a:srgbClr val="000000"/>
                </a:solidFill>
                <a:latin typeface="Arial"/>
                <a:ea typeface="msgothic"/>
              </a:rPr>
              <a:t>) in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In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immunoblot images of β-actin are shown below those for MLC detection. In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level of phosphorylation, as normalized to the level of total MLC, was expressed as a relative value to that obtained at 48 hours. All of the data are expressed as the mean±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involvement of Rho-associated kinase 2 (ROCK2) in the circadian changes in the thrombin-induced myosin light chain (MLC) phosphorylation in porcine coronary artery smooth muscle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circadian changes in the MLC phosphorylation induced by 1 U/mL of thrombin in the presence of 10 µmol/L of ML-9, 1 µmol/L of GF109203, and 3 µmol/L of Y27632 (n=3). The cells were treated with inhibitors for 10 minutes before and during thrombin stimulation at the indicated times after synchronization of the circadian rhythm.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Representative immunoblots of MLC kinase (MLCK), Zipper-interacting kinase (ZIPK), and ROCK2 in the cells transfected with control small interfering RNA (siRNA) or targeted siRNA and the Phos-tag SDS-PAGE analysis of the effects of the knockdown of MLCK, ZIPK, and ROCK2 on the circadian changes in the MLC phosphorylation induced by 1 U/mL of thrombin (n=3–4). The open, single, and double arrowheads indicate non-, mono-, and di-phosphorylated MLC, respectively.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Studen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ircadian changes in the activity and the expression of Rho-associated kinase 2 (ROCK2) in porcine coronary artery smooth muscle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circadian changes in the level of MYPT1 phosphorylation at residues corresponding with Thr853 (n=5) and Thr696 (n=4) in human MYPT1 obtained 2 minutes after the stimulation with 1 U/mL of thrombi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representative immunoblot detection of ROCK2 and summaries of circadian changes in the level of ROCK2 protein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n=5) and mRNA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 n=4).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circadian patterns of the protein levels of MLC kinase (MLCK), protein kinase C (PKC)-∝, and Zipper-interacting kinase (ZIPK; n=3).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The circadian pattern of the activity of RhoA as evaluated by the level of the GTP-bound form of RhoA in the total RhoA (GTP-RhoA/total RhoA) obtained 2 minutes after the stimulation with 1 U/mL of thrombin (n=4). The values of GTP-RhoA/total RhoA were obtained after normalizing the levels of GTP-RhoA and total RhoA to those of the pull down probe and actin, respectively. The data are expressed as the relative values to those obtained at 48 hour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and 24 hour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D</a:t>
            </a:r>
            <a:r>
              <a:rPr b="0" lang="en-GB" sz="1200" spc="-1" strike="noStrike">
                <a:solidFill>
                  <a:srgbClr val="000000"/>
                </a:solidFill>
                <a:latin typeface="Arial"/>
                <a:ea typeface="msgothic"/>
              </a:rPr>
              <a:t>).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48 hours (Steel test; A and B, </a:t>
            </a:r>
            <a:r>
              <a:rPr b="1" lang="en-GB" sz="1400" spc="-1" strike="noStrike">
                <a:solidFill>
                  <a:srgbClr val="000000"/>
                </a:solidFill>
                <a:latin typeface="Arial"/>
                <a:ea typeface="msgothic"/>
              </a:rPr>
              <a:t>lef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Studen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B, </a:t>
            </a:r>
            <a:r>
              <a:rPr b="1" lang="en-GB" sz="1400" spc="-1" strike="noStrike">
                <a:solidFill>
                  <a:srgbClr val="000000"/>
                </a:solidFill>
                <a:latin typeface="Arial"/>
                <a:ea typeface="msgothic"/>
              </a:rPr>
              <a:t>right</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ORα regulation of the circadian expression of Rho-associated kinase 2 (ROCK2) in porcine coronary artery smooth muscle cell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effects of REV-ERBα, REV-ERBβ, RORα, RORβ, and RORγ on the activity of the human </a:t>
            </a:r>
            <a:r>
              <a:rPr b="0" i="1" lang="en-GB" sz="1200" spc="-1" strike="noStrike">
                <a:solidFill>
                  <a:srgbClr val="000000"/>
                </a:solidFill>
                <a:latin typeface="Arial"/>
                <a:ea typeface="msgothic"/>
              </a:rPr>
              <a:t>rock2</a:t>
            </a:r>
            <a:r>
              <a:rPr b="0" lang="en-GB" sz="1200" spc="-1" strike="noStrike">
                <a:solidFill>
                  <a:srgbClr val="000000"/>
                </a:solidFill>
                <a:latin typeface="Arial"/>
                <a:ea typeface="msgothic"/>
              </a:rPr>
              <a:t> promoter, as evaluated by the luciferase activity. pCMV6xl4 was used as a vector for REV-ERBα and RORα, whereas pCMV6xl5 was used for REV-ERBβ, RORβ, and RORγ (n=3). The data are expressed as the relative values to those obtained with the corresponding empty vector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circadian changes of the endogenous expression of RORα and RORγ (n=3). The data were expressed as relative values to those obtained at 48 hours.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effects of the knockdown of RORα on the circadian changes in the expression of the ROCK2 protein (n=4). The data are expressed as the relative values to those obtained with a control small interfering RNAs (siRNAs) at 44 hours.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Studen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absence of the circadian changes in the expression of Rho-associated kinase 2 (ROCK2) in the aortas of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mic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The representative immunoblot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summaries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showing the circadian patterns of the expression of the RORα and ROCK2 proteins in the aortas of wild-type and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Sg/Sg</a:t>
            </a:r>
            <a:r>
              <a:rPr b="0" lang="en-GB" sz="1200" spc="-1" strike="noStrike">
                <a:solidFill>
                  <a:srgbClr val="000000"/>
                </a:solidFill>
                <a:latin typeface="Arial"/>
                <a:ea typeface="msgothic"/>
              </a:rPr>
              <a:t>) mice that were housed under 12-hour light (open bar) and 12-hour dark (closed bar) cycle conditions. The expression levels are expressed as the relative values to those obtained at Zeitgeber time 12 (ZT12). All of the data are expressed as the mean±SEM (n=5–6 for RORα in wild-type; n=6–7 for ROCK2 in wild-type; n=6–7 for ROCK2 in </a:t>
            </a:r>
            <a:r>
              <a:rPr b="0" i="1" lang="en-GB" sz="1200" spc="-1" strike="noStrike">
                <a:solidFill>
                  <a:srgbClr val="000000"/>
                </a:solidFill>
                <a:latin typeface="Arial"/>
                <a:ea typeface="msgothic"/>
              </a:rPr>
              <a:t>Sg/Sg</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1 (Student </a:t>
            </a:r>
            <a:r>
              <a:rPr b="0" i="1" lang="en-GB" sz="1200" spc="-1" strike="noStrike">
                <a:solidFill>
                  <a:srgbClr val="000000"/>
                </a:solidFill>
                <a:latin typeface="Arial"/>
                <a:ea typeface="msgothic"/>
              </a:rPr>
              <a:t>t</a:t>
            </a:r>
            <a:r>
              <a:rPr b="0" lang="en-GB" sz="1200" spc="-1" strike="noStrike">
                <a:solidFill>
                  <a:srgbClr val="000000"/>
                </a:solidFill>
                <a:latin typeface="Arial"/>
                <a:ea typeface="msgothic"/>
              </a:rPr>
              <a:t> test). </a:t>
            </a:r>
            <a:r>
              <a:rPr b="1" lang="en-GB" sz="1400" spc="-1" strike="noStrike">
                <a:solidFill>
                  <a:srgbClr val="000000"/>
                </a:solidFill>
                <a:latin typeface="Arial"/>
                <a:ea typeface="msgothic"/>
              </a:rPr>
              <a:t>C</a:t>
            </a:r>
            <a:r>
              <a:rPr b="0" lang="en-GB" sz="1200" spc="-1" strike="noStrike">
                <a:solidFill>
                  <a:srgbClr val="000000"/>
                </a:solidFill>
                <a:latin typeface="Arial"/>
                <a:ea typeface="msgothic"/>
              </a:rPr>
              <a:t>, The expression of ROCK2 and myosin light chain (MLC) kinase (MLCK) proteins in the aortas of wild-type and </a:t>
            </a:r>
            <a:r>
              <a:rPr b="0" i="1" lang="en-GB" sz="1200" spc="-1" strike="noStrike">
                <a:solidFill>
                  <a:srgbClr val="000000"/>
                </a:solidFill>
                <a:latin typeface="Arial"/>
                <a:ea typeface="msgothic"/>
              </a:rPr>
              <a:t>Sg/Sg</a:t>
            </a:r>
            <a:r>
              <a:rPr b="0" lang="en-GB" sz="1200" spc="-1" strike="noStrike">
                <a:solidFill>
                  <a:srgbClr val="000000"/>
                </a:solidFill>
                <a:latin typeface="Arial"/>
                <a:ea typeface="msgothic"/>
              </a:rPr>
              <a:t> mice at ZT12 was directly compared on the same g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ircadian changes in the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sensitivity of the contractile apparatus in the α-toxin–permeabilized preparations of aortas of wild-type and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mice.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The p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tension curves of the contractions induced by stepwise increases in the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concentrations in the absence of GTPγS (GTPγS [−]) and the contractions induced by 10 µmol/L of GTPγS and 0.3, 0.5, or 1.0 µmol/L of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GTPγS [+]), in the wild-type (n=4–5) and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Sg/Sg</a:t>
            </a:r>
            <a:r>
              <a:rPr b="0" lang="en-GB" sz="1200" spc="-1" strike="noStrike">
                <a:solidFill>
                  <a:srgbClr val="000000"/>
                </a:solidFill>
                <a:latin typeface="Arial"/>
                <a:ea typeface="msgothic"/>
              </a:rPr>
              <a:t>; n=4–5) mice at Zeitgeber time (ZT) 0 and 12.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Representative recordings showing the experimental protocol used to examine the contractions induced by 10 µmol/L of GTPγS and 0.3, 0.5, or 1.0 µmol/L of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The level of tension obtained with different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concentrations in either the presence or absence of GTPγS was expressed as a percentage, whereas the levels of tension obtained in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free solution and with 10 µmol/L of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were assigned a value of 0% and 100%, respectively.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vs ZT1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circadian changes in the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sensitivity and myosin light chain (MLC) phosphorylation induced by U46619 in the α-toxin–permeabilized preparations of aortas of wild-type and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mice. Representative recordings and summaries of the contractions (</a:t>
            </a:r>
            <a:r>
              <a:rPr b="1" lang="en-GB" sz="1400" spc="-1" strike="noStrike">
                <a:solidFill>
                  <a:srgbClr val="000000"/>
                </a:solidFill>
                <a:latin typeface="Arial"/>
                <a:ea typeface="msgothic"/>
              </a:rPr>
              <a:t>A</a:t>
            </a:r>
            <a:r>
              <a:rPr b="0" lang="en-GB" sz="1200" spc="-1" strike="noStrike">
                <a:solidFill>
                  <a:srgbClr val="000000"/>
                </a:solidFill>
                <a:latin typeface="Arial"/>
                <a:ea typeface="msgothic"/>
              </a:rPr>
              <a:t>) and MLC phosphorylation (</a:t>
            </a:r>
            <a:r>
              <a:rPr b="1" lang="en-GB" sz="1400" spc="-1" strike="noStrike">
                <a:solidFill>
                  <a:srgbClr val="000000"/>
                </a:solidFill>
                <a:latin typeface="Arial"/>
                <a:ea typeface="msgothic"/>
              </a:rPr>
              <a:t>B</a:t>
            </a:r>
            <a:r>
              <a:rPr b="0" lang="en-GB" sz="1200" spc="-1" strike="noStrike">
                <a:solidFill>
                  <a:srgbClr val="000000"/>
                </a:solidFill>
                <a:latin typeface="Arial"/>
                <a:ea typeface="msgothic"/>
              </a:rPr>
              <a:t>) induced by 1 µmol/L of U46619 in the presence of 10 µmol/L of GTP during the 0.5-µmol/L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induced contractions in wild-type (n=4) and </a:t>
            </a:r>
            <a:r>
              <a:rPr b="0" i="1" lang="en-GB" sz="1200" spc="-1" strike="noStrike">
                <a:solidFill>
                  <a:srgbClr val="000000"/>
                </a:solidFill>
                <a:latin typeface="Arial"/>
                <a:ea typeface="msgothic"/>
              </a:rPr>
              <a:t>staggerer</a:t>
            </a:r>
            <a:r>
              <a:rPr b="0" lang="en-GB" sz="1200" spc="-1" strike="noStrike">
                <a:solidFill>
                  <a:srgbClr val="000000"/>
                </a:solidFill>
                <a:latin typeface="Arial"/>
                <a:ea typeface="msgothic"/>
              </a:rPr>
              <a:t> (n=4) mice at Zeitgeber time (ZT) 0 and 12. The increase in tension induced by U46619 (Δ) was expressed as a percentage of the tension obtained with 10 µmol/L of C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MLC phosphorylation was analyzed using Phos-tag SDS-PAGE. All of the data are expressed as the mean±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lt;0.05; NS, not significantly different vs ZT1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ivotal Role of Rho-Associated Kinase 2 in Generating the Intrinsic Circadian Rhythm of Vascular ContractilityClinical Perspectiv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oshiro Saito, Mayumi Hirano, Tomomi Ide, Toshihiro Ichiki, Noriyuki Koibuchi, Kenji Sunagawa, and Katsuya Hiran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Circulation</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27(1):104-11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13</a:t>
            </a:r>
            <a:endParaRPr b="0" lang="en-US" sz="1800" spc="-1" strike="noStrike">
              <a:solidFill>
                <a:srgbClr val="000000"/>
              </a:solidFill>
              <a:latin typeface="Times New Roman"/>
            </a:endParaRPr>
          </a:p>
        </p:txBody>
      </p:sp>
      <p:sp>
        <p:nvSpPr>
          <p:cNvPr id="44"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488880" y="6861240"/>
            <a:ext cx="1389240" cy="56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valuation of myosin light chain (MLC) phosphorylation with Phos-tag SDS-PAG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488880" y="6861240"/>
            <a:ext cx="1389240" cy="561960"/>
          </a:xfrm>
          <a:prstGeom prst="rect">
            <a:avLst/>
          </a:prstGeom>
          <a:ln w="0">
            <a:noFill/>
          </a:ln>
        </p:spPr>
      </p:pic>
      <p:pic>
        <p:nvPicPr>
          <p:cNvPr id="48" name="" descr=""/>
          <p:cNvPicPr/>
          <p:nvPr/>
        </p:nvPicPr>
        <p:blipFill>
          <a:blip r:embed="rId2"/>
          <a:stretch/>
        </p:blipFill>
        <p:spPr>
          <a:xfrm>
            <a:off x="2786040" y="1079640"/>
            <a:ext cx="4513320" cy="5394240"/>
          </a:xfrm>
          <a:prstGeom prst="rect">
            <a:avLst/>
          </a:prstGeom>
          <a:ln w="0">
            <a:noFill/>
          </a:ln>
        </p:spPr>
      </p:pic>
      <p:sp>
        <p:nvSpPr>
          <p:cNvPr id="49" name=""/>
          <p:cNvSpPr/>
          <p:nvPr/>
        </p:nvSpPr>
        <p:spPr>
          <a:xfrm>
            <a:off x="2786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5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ircadian changes in the thrombin-induced phosphorylation of myosin light chain (MLC) in porcine coronary artery smooth muscle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488880" y="6861240"/>
            <a:ext cx="1389240" cy="561960"/>
          </a:xfrm>
          <a:prstGeom prst="rect">
            <a:avLst/>
          </a:prstGeom>
          <a:ln w="0">
            <a:noFill/>
          </a:ln>
        </p:spPr>
      </p:pic>
      <p:pic>
        <p:nvPicPr>
          <p:cNvPr id="53" name="" descr=""/>
          <p:cNvPicPr/>
          <p:nvPr/>
        </p:nvPicPr>
        <p:blipFill>
          <a:blip r:embed="rId2"/>
          <a:stretch/>
        </p:blipFill>
        <p:spPr>
          <a:xfrm>
            <a:off x="3186000" y="1079640"/>
            <a:ext cx="3713400" cy="5394240"/>
          </a:xfrm>
          <a:prstGeom prst="rect">
            <a:avLst/>
          </a:prstGeom>
          <a:ln w="0">
            <a:noFill/>
          </a:ln>
        </p:spPr>
      </p:pic>
      <p:sp>
        <p:nvSpPr>
          <p:cNvPr id="54" name=""/>
          <p:cNvSpPr/>
          <p:nvPr/>
        </p:nvSpPr>
        <p:spPr>
          <a:xfrm>
            <a:off x="318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5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involvement of Rho-associated kinase 2 (ROCK2) in the circadian changes in the thrombin-induced myosin light chain (MLC) phosphorylation in porcine coronary artery smooth muscle cel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488880" y="6861240"/>
            <a:ext cx="1389240" cy="561960"/>
          </a:xfrm>
          <a:prstGeom prst="rect">
            <a:avLst/>
          </a:prstGeom>
          <a:ln w="0">
            <a:noFill/>
          </a:ln>
        </p:spPr>
      </p:pic>
      <p:pic>
        <p:nvPicPr>
          <p:cNvPr id="58" name="" descr=""/>
          <p:cNvPicPr/>
          <p:nvPr/>
        </p:nvPicPr>
        <p:blipFill>
          <a:blip r:embed="rId2"/>
          <a:stretch/>
        </p:blipFill>
        <p:spPr>
          <a:xfrm>
            <a:off x="2592360" y="1079640"/>
            <a:ext cx="4900680" cy="5394240"/>
          </a:xfrm>
          <a:prstGeom prst="rect">
            <a:avLst/>
          </a:prstGeom>
          <a:ln w="0">
            <a:noFill/>
          </a:ln>
        </p:spPr>
      </p:pic>
      <p:sp>
        <p:nvSpPr>
          <p:cNvPr id="59" name=""/>
          <p:cNvSpPr/>
          <p:nvPr/>
        </p:nvSpPr>
        <p:spPr>
          <a:xfrm>
            <a:off x="2592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6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ircadian changes in the activity and the expression of Rho-associated kinase 2 (ROCK2) in porcine coronary artery smooth muscle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488880" y="6861240"/>
            <a:ext cx="1389240" cy="561960"/>
          </a:xfrm>
          <a:prstGeom prst="rect">
            <a:avLst/>
          </a:prstGeom>
          <a:ln w="0">
            <a:noFill/>
          </a:ln>
        </p:spPr>
      </p:pic>
      <p:pic>
        <p:nvPicPr>
          <p:cNvPr id="63" name="" descr=""/>
          <p:cNvPicPr/>
          <p:nvPr/>
        </p:nvPicPr>
        <p:blipFill>
          <a:blip r:embed="rId2"/>
          <a:stretch/>
        </p:blipFill>
        <p:spPr>
          <a:xfrm>
            <a:off x="2654280" y="1079640"/>
            <a:ext cx="4776840" cy="5394240"/>
          </a:xfrm>
          <a:prstGeom prst="rect">
            <a:avLst/>
          </a:prstGeom>
          <a:ln w="0">
            <a:noFill/>
          </a:ln>
        </p:spPr>
      </p:pic>
      <p:sp>
        <p:nvSpPr>
          <p:cNvPr id="64" name=""/>
          <p:cNvSpPr/>
          <p:nvPr/>
        </p:nvSpPr>
        <p:spPr>
          <a:xfrm>
            <a:off x="265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6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ORα regulation of the circadian expression of Rho-associated kinase 2 (ROCK2) in porcine coronary artery smooth muscle cell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488880" y="6861240"/>
            <a:ext cx="1389240" cy="561960"/>
          </a:xfrm>
          <a:prstGeom prst="rect">
            <a:avLst/>
          </a:prstGeom>
          <a:ln w="0">
            <a:noFill/>
          </a:ln>
        </p:spPr>
      </p:pic>
      <p:pic>
        <p:nvPicPr>
          <p:cNvPr id="68" name="" descr=""/>
          <p:cNvPicPr/>
          <p:nvPr/>
        </p:nvPicPr>
        <p:blipFill>
          <a:blip r:embed="rId2"/>
          <a:stretch/>
        </p:blipFill>
        <p:spPr>
          <a:xfrm>
            <a:off x="2787480" y="1079640"/>
            <a:ext cx="4510080" cy="5394240"/>
          </a:xfrm>
          <a:prstGeom prst="rect">
            <a:avLst/>
          </a:prstGeom>
          <a:ln w="0">
            <a:noFill/>
          </a:ln>
        </p:spPr>
      </p:pic>
      <p:sp>
        <p:nvSpPr>
          <p:cNvPr id="69" name=""/>
          <p:cNvSpPr/>
          <p:nvPr/>
        </p:nvSpPr>
        <p:spPr>
          <a:xfrm>
            <a:off x="2787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7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absence of the circadian changes in the expression of Rho-associated kinase 2 (ROCK2) in the aortas of staggerer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488880" y="6861240"/>
            <a:ext cx="1389240" cy="561960"/>
          </a:xfrm>
          <a:prstGeom prst="rect">
            <a:avLst/>
          </a:prstGeom>
          <a:ln w="0">
            <a:noFill/>
          </a:ln>
        </p:spPr>
      </p:pic>
      <p:pic>
        <p:nvPicPr>
          <p:cNvPr id="73" name="" descr=""/>
          <p:cNvPicPr/>
          <p:nvPr/>
        </p:nvPicPr>
        <p:blipFill>
          <a:blip r:embed="rId2"/>
          <a:stretch/>
        </p:blipFill>
        <p:spPr>
          <a:xfrm>
            <a:off x="2241720" y="1079640"/>
            <a:ext cx="5603760" cy="5394240"/>
          </a:xfrm>
          <a:prstGeom prst="rect">
            <a:avLst/>
          </a:prstGeom>
          <a:ln w="0">
            <a:noFill/>
          </a:ln>
        </p:spPr>
      </p:pic>
      <p:sp>
        <p:nvSpPr>
          <p:cNvPr id="74" name=""/>
          <p:cNvSpPr/>
          <p:nvPr/>
        </p:nvSpPr>
        <p:spPr>
          <a:xfrm>
            <a:off x="22417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7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ircadian changes in the Ca2+ sensitivity of the contractile apparatus in the α-toxin–permeabilized preparations of aortas of wild-type and staggerer mice.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488880" y="6861240"/>
            <a:ext cx="1389240" cy="561960"/>
          </a:xfrm>
          <a:prstGeom prst="rect">
            <a:avLst/>
          </a:prstGeom>
          <a:ln w="0">
            <a:noFill/>
          </a:ln>
        </p:spPr>
      </p:pic>
      <p:pic>
        <p:nvPicPr>
          <p:cNvPr id="78" name="" descr=""/>
          <p:cNvPicPr/>
          <p:nvPr/>
        </p:nvPicPr>
        <p:blipFill>
          <a:blip r:embed="rId2"/>
          <a:stretch/>
        </p:blipFill>
        <p:spPr>
          <a:xfrm>
            <a:off x="3297240" y="1079640"/>
            <a:ext cx="3490920" cy="5394240"/>
          </a:xfrm>
          <a:prstGeom prst="rect">
            <a:avLst/>
          </a:prstGeom>
          <a:ln w="0">
            <a:noFill/>
          </a:ln>
        </p:spPr>
      </p:pic>
      <p:sp>
        <p:nvSpPr>
          <p:cNvPr id="79" name=""/>
          <p:cNvSpPr/>
          <p:nvPr/>
        </p:nvSpPr>
        <p:spPr>
          <a:xfrm>
            <a:off x="3297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80"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circadian changes in the Ca2+ sensitivity and myosin light chain (MLC) phosphorylation induced by U46619 in the α-toxin–permeabilized preparations of aortas of wild-type and staggerer mic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488880" y="6861240"/>
            <a:ext cx="1389240" cy="561960"/>
          </a:xfrm>
          <a:prstGeom prst="rect">
            <a:avLst/>
          </a:prstGeom>
          <a:ln w="0">
            <a:noFill/>
          </a:ln>
        </p:spPr>
      </p:pic>
      <p:pic>
        <p:nvPicPr>
          <p:cNvPr id="83" name="" descr=""/>
          <p:cNvPicPr/>
          <p:nvPr/>
        </p:nvPicPr>
        <p:blipFill>
          <a:blip r:embed="rId2"/>
          <a:stretch/>
        </p:blipFill>
        <p:spPr>
          <a:xfrm>
            <a:off x="3338640" y="1079640"/>
            <a:ext cx="3408120" cy="5394240"/>
          </a:xfrm>
          <a:prstGeom prst="rect">
            <a:avLst/>
          </a:prstGeom>
          <a:ln w="0">
            <a:noFill/>
          </a:ln>
        </p:spPr>
      </p:pic>
      <p:sp>
        <p:nvSpPr>
          <p:cNvPr id="84" name=""/>
          <p:cNvSpPr/>
          <p:nvPr/>
        </p:nvSpPr>
        <p:spPr>
          <a:xfrm>
            <a:off x="3338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oshiro Saito et al. Circulation. 2013;127:104-114</a:t>
            </a:r>
            <a:endParaRPr b="0" lang="en-US" sz="1200" spc="-1" strike="noStrike">
              <a:solidFill>
                <a:srgbClr val="000000"/>
              </a:solidFill>
              <a:latin typeface="Times New Roman"/>
            </a:endParaRPr>
          </a:p>
        </p:txBody>
      </p:sp>
      <p:sp>
        <p:nvSpPr>
          <p:cNvPr id="8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