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 contemporary cardiac catheterization laboratory suite. A, X-ray source generates x-rays to visualize heart arteries; B, movable patient table, which moves over x-ray source during procedure; C, lead shielding, used to protect staff from excess x-rays; and D, video display screens, used to review the x-ray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o Expect During Cardiac Cathe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ichelle G. Glowny, and Frederic S. Res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5(7):e363-e3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contemporary cardiac catheterization laboratory sui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079640"/>
            <a:ext cx="81057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chelle G. Glowny, and Frederic S. Resnic Circulation. 2012;125:e363-e3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