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esting ECG showing sinus rhythm with QRS fragmentation in the inferior leads (black arrow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ducible, monomorphic, sustained ventricular tachycardia during the electrophysiological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ardiac magnetic resonance imaging, 2-chamber (A) and short-axis views (B), showing late gadolinium enhancement (LGE) in the middle myocardial layer of the inferior wall (arrows), compatible with a nonischemic inflammatory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ucible Ventricular Tachycardia Due to Dermatomyositis-Related Cardiomyopathy in the Era of Implantable Cardioverter-Defibrillator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Polychronis Dilaveris, Panagiota Pietri, Dimitris Tsiachris, Konstantinos Gatzoulis, and Christodoulos Stefana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5(7):967-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ting ECG showing sinus rhythm with QRS fragmentation in the inferior leads (black arrow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2240" y="1079640"/>
            <a:ext cx="84423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2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ychronis Dilaveris et al. Circulation. 2012;125:967-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ducible, monomorphic, sustained ventricular tachycardia during the electrophysiological stu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1840" y="1079640"/>
            <a:ext cx="72835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18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ychronis Dilaveris et al. Circulation. 2012;125:967-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rdiac magnetic resonance imaging, 2-chamber (A) and short-axis views (B), showing late gadolinium enhancement (LGE) in the middle myocardial layer of the inferior wall (arrows), compatible with a nonischemic inflammatory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79400" y="1079640"/>
            <a:ext cx="852660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94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ychronis Dilaveris et al. Circulation. 2012;125:967-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