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, Computed tomography scans with intravenous contrast showing an air pocket (arrowhead) traversing the esophageal wall (arrow) and the posterior wall of the left atrium (LA), indicating a transmural fistulous tract (A, sagittal scan; B, axial scan). Bottom, Intraoperative photographs showing a 1.5-cm perforation of the posterior wall of the left atrium contiguous to myocardial necrosis (arrowheads) (C) and the esophageal fistula (arrow) (D), visible after removal of the necro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rioesophageal Fistula After Percutaneous Transcatheter Ablation of Atrial Fibr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Ivan Tancevski, Florian Hintringer, Markus Stuehlinger, Eva-Maria Gassner, Nikolaos Bonaros, Ludwig C. Mueller, and Johannes M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966-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p, Computed tomography scans with intravenous contrast showing an air pocket (arrowhead) traversing the esophageal wall (arrow) and the posterior wall of the left atrium (LA), indicating a transmural fistulous tract (A, sagittal scan; B, axial sca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4680" y="1079640"/>
            <a:ext cx="53942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4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van Tancevski et al. Circulation. 2012;125:9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