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representative strip from the 24-hour ambulatory monitor shows nonsustained ventricular tachycard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CG shows sinus rhythm, multiple nonspecific T-wave abnormalities, and abnormal precordial QRS complexes with an incomplete right bundle branch block and unusual terminal por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ardiac MRI shows diastolic (A) and systolic (B) still frames with the akinetic segment of the distal RV denoted by the white arrow (B). C, The delayed enhancement image shows subendocardial enhancement of the distal third of the RV (white arr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signal-averaged ECG-filtered vector magnitude shows abnormalities of all 3 parameters: the filtered QRS duration (QRSD), the low-amplitude signal duration below 40 μV (LAS), and the root-mean-square voltage of the last 40 milliseconds of the QRS (RMS-40). The delayed afterdepolarization is indicated by the solid arr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alpitati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Brendan W. Reagan, Robert L. Huang, and Walter K. Clai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5(7):958-96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21, 2012</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representative strip from the 24-hour ambulatory monitor shows nonsustained ventricular tachycardia.</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1995480"/>
            <a:ext cx="8604360" cy="356076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endan W. Reagan et al. Circulation. 2012;125:958-965</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CG shows sinus rhythm, multiple nonspecific T-wave abnormalities, and abnormal precordial QRS complexes with an incomplete right bundle branch block and unusual terminal portion.</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739800" y="1603440"/>
            <a:ext cx="8604360" cy="43434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endan W. Reagan et al. Circulation. 2012;125:958-965</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ardiac MRI shows diastolic (A) and systolic (B) still frames with the akinetic segment of the distal RV denoted by the white arrow (B).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739800" y="2679840"/>
            <a:ext cx="8604360" cy="219384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endan W. Reagan et al. Circulation. 2012;125:958-965</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signal-averaged ECG-filtered vector magnitude shows abnormalities of all 3 parameters: the filtered QRS duration (QRSD), the low-amplitude signal duration below 40 μV (LAS), and the root-mean-square voltage of the last 40 milliseconds of the QRS (RMS-40).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3300480" y="1079640"/>
            <a:ext cx="3486240" cy="5394240"/>
          </a:xfrm>
          <a:prstGeom prst="rect">
            <a:avLst/>
          </a:prstGeom>
          <a:ln w="0">
            <a:noFill/>
          </a:ln>
        </p:spPr>
      </p:pic>
      <p:sp>
        <p:nvSpPr>
          <p:cNvPr id="64" name=""/>
          <p:cNvSpPr/>
          <p:nvPr/>
        </p:nvSpPr>
        <p:spPr>
          <a:xfrm>
            <a:off x="3300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rendan W. Reagan et al. Circulation. 2012;125:958-965</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