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trial fibrillation (AF) complicates concomitant disease, and underlying illnesses may exacerbate A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mportant considerations in patients with implantable devices and atrial fibrillation (AF). SVT indicates supraventricular tachycardia; VT, ventricular tachycardia; and AV, atrioventr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Overview of the management of atrial fibrillation (AF) in congestive heart failure (CHF). ACEI/ARB indicates angiotensin-converting enzyme inhibitors/angiotensin receptor blockers; AV, atrioventricular; and CRT, cardiac resynchronization thera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harmacological options for rhythm control in structural heart disease. NYHA indicates New York Heart Association; LVH, left ventricular hypertrophy; and LV, left ventr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elationship between valvular heart conditions and atrial fibrillation. LV indicates left ventr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Atrial Fibrillation in Patients With Structural Heart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Andrew E. Darby, and John P. DiM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25(7):945-9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ebruary 21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rial fibrillation (AF) complicates concomitant disease, and underlying illnesses may exacerbate A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66920" y="1079640"/>
            <a:ext cx="735156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669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rew E. Darby, and John P. DiMarco Circulation. 2012;125:945-9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mportant considerations in patients with implantable devices and atrial fibrillation (AF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14440" y="1079640"/>
            <a:ext cx="725796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1444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rew E. Darby, and John P. DiMarco Circulation. 2012;125:945-9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verview of the management of atrial fibrillation (AF) in congestive heart failure (CHF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47720" y="1079640"/>
            <a:ext cx="679140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477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rew E. Darby, and John P. DiMarco Circulation. 2012;125:945-9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rmacological options for rhythm control in structural heart dise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46320" y="1079640"/>
            <a:ext cx="759276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46320" y="6583320"/>
            <a:ext cx="4319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rew E. Darby, and John P. DiMarco Circulation. 2012;125:945-9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ationship between valvular heart conditions and atrial fibrill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01920" y="1079640"/>
            <a:ext cx="7083360" cy="539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01920" y="6583320"/>
            <a:ext cx="4319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rew E. Darby, and John P. DiMarco Circulation. 2012;125:945-9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