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equencing milestones, costs, and output since completion of the human genome project. Note logarithmic scale for sequencing costs and bases produced per sequence r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ree generations of human genome sequencing technology. Three groups of sequencing technology are depicted: sequencing in the human genome project; second-generation sequencing as exemplified by the Illumina HiSeq 2000; and third-generation sequencing as exemplified by the Helicos Heliscope single-molecule seque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Frederick E. Dewey, Stephen Pan, Matthew T. Wheeler, Stephen R. Quake, and Euan A. Ash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25(7):931-9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ebruary 21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quencing milestones, costs, and output since completion of the human genome projec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31840" y="1079640"/>
            <a:ext cx="601992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18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rederick E. Dewey et al. Circulation. 2012;125:931-9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ree generations of human genome sequencing technolog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97120" y="1079640"/>
            <a:ext cx="469116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971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rederick E. Dewey et al. Circulation. 2012;125:931-9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