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 name="PlaceHolder 1"/>
          <p:cNvSpPr>
            <a:spLocks noGrp="1"/>
          </p:cNvSpPr>
          <p:nvPr>
            <p:ph type="sldImg"/>
          </p:nvPr>
        </p:nvSpPr>
        <p:spPr>
          <a:xfrm>
            <a:off x="1587240" y="1006200"/>
            <a:ext cx="4593960" cy="34448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move the slide</a:t>
            </a:r>
            <a:endParaRPr b="1" lang="en-US" sz="2800" spc="-1" strike="noStrike">
              <a:solidFill>
                <a:srgbClr val="000000"/>
              </a:solidFill>
              <a:latin typeface="Times New Roman"/>
            </a:endParaRPr>
          </a:p>
        </p:txBody>
      </p:sp>
      <p:sp>
        <p:nvSpPr>
          <p:cNvPr id="40" name="PlaceHolder 2"/>
          <p:cNvSpPr>
            <a:spLocks noGrp="1"/>
          </p:cNvSpPr>
          <p:nvPr>
            <p:ph type="body"/>
          </p:nvPr>
        </p:nvSpPr>
        <p:spPr>
          <a:xfrm>
            <a:off x="1185480" y="4787640"/>
            <a:ext cx="5405400" cy="3824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7"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Gremlin is upregulated in the pulmonary vascular endothelium in hypoxic mice. A, High basal gremlin 1 mRNA expression in the mouse lung compared with the systemic organs (n=7). Values (mean±SE) were normalized to 18S rRNA (**P&lt;0.01, significantly different from all other organs). B, Gremlin 1 mRNA expression (mean±SE) in mouse lungs (n=8) after hypoxic exposure from 3 hours to 2 weeks. N indicates normoxia group. Values are normalized to 18S rRNA and expressed as fold change relative to normoxic control. *P&lt;0.05 and **P&lt;0.01, significantly different from normoxic group. C through F, Representative images showing immunostaining (brown) of gremlin in the small intra-acinar vessels (arrows) in a hypoxic mouse (C) and a normoxic mouse (E) in a pattern compatible with endothelial localization. D and F, Higher-magnification images of vessels in C and E, respectively. No significant gremlin expression was detected in the endothelium of large extra-acinar vessels of normoxic (G) or hypoxic (I) lungs. H and J, These vessels at higher magnification (×40 objective; scale bar=50 μm).</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9"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Bone morphometric protein (BMP) ligands and receptors (BMPRs) are altered in response to hypoxia. A, Western blot showing downregulation of BMP2 and BMPR2, with BMP4 and BMPR1a remaining unaltered in response to hypoxic exposure (48 hours) in mouse lungs. Densitometry (mean±SE) shows a significant reduction in BMP2 and BMPR2 in hypoxia (n=6). B, Western blot and densitometric analysis (median±interquartile range) showing that Smad1/5/8 phosphorylation was reduced in hypoxic conditions compared with normoxic values (n=6). C, The BMP target gene Id1 was significantly downregulated (mean±SE) in hypoxic mouse lungs compared with normoxic controls (n=8). Values are normalized to 18S rRNA and expressed as fold change relative to normoxic control. *P&lt;0.05 and **P&lt;0.01, significantly different from normoxic valu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1"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Hypoxia-induced increases in gremlin 1 expression in pulmonary endothelial cells required hypoxia-inducible factor (HIF)-2α. Under control conditions in the absence of siRNA (ctrl-siRNA) and in the presence of nontargeting siRNA (NT siRNA), hypoxia (48-hour exposure) caused significant increases in gremlin 1 expression (median±interquartile range). siRNA-mediated knockdown of HIF1α did not alter the hypoxia-induced increase in gremlin expression (HIF1α siRNA). However, siRNA-mediated knockdown of HIF2α completely blocked the hypoxic response of gremlin (HIF2α siRNA). Note that under normoxic conditions none of the 3 siRNAs significantly altered gremlin expression (nontargeting, siRNA targeting HIF1α, and siRNA targeting HIF2α). *P&lt;0.05, significantly different from matched normoxic grou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3"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Endogenous gremlin 1 expression and bone morphometric protein (BMP) 2, BMP4, and BMP signaling are altered in human pulmonary microvascular endothelial cells in response to hypoxia (2 days). A, Western blot demonstrating increased gremlin 1 concentration in cell culture medium (CM) after hypoxic exposure (mean±SE; n=6). B, BMP2 concentration (mean±SE) in cell culture medium was not significantly altered (P=0.07) with hypoxia (n=6), whereas (C) BMP4 concentration (mean±SE) was enhanced (n=6). D, Western blot showing that Smad1/5/8 phosphorylation (mean±SE) was reduced in hypoxia (n=6). E, Id1 mRNA expression (mean±SE) was downregulated after hypoxic exposure (n=6). Cells were exposed to hypoxia for 48 hours in all experiments (n=6). *P&lt;0.05 and **P&lt;0.01, significantly different from matched normoxic group.</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5"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Hypoxia-induced gremlin 1 secretion blocks bone morphometric protein (BMP) signaling and scratch closure in pulmonary microvascular endothelial cells. A, Exogenous BMP2 (100 ng/mL) induced Smad1/5/8 phosphorylation, which was blocked by exogenous gremlin 1 (2 μg/mL). B, Hypoxia-conditioned medium blocked BMP2 (100 ng/mL)-induced Smad1/5/8 phosphorylation, which was restored by preincubating hypoxic conditioned medium (CM) with anti-gremlin antibody (15 μg/mL). C, Densitometric (median±interquartile range) analysis of phospho (p)-Smad blots. Vehicle (n=9), gremlin (n=6), BMP (n=9), gremlin+BMP2 (n=6), hypoxic CM+BMP2 (n=6), BMP2+CM+anti-gremlin antibodies (n=6). D, BMP2 (100 ng/mL) induced scratch closure (measured at 24 hours), which was blocked by recombinant gremlin 1 (2 μg/mL) and restored by preincubating hypoxic CM with anti-gremlin antibody (15 μg/mL). E, BMP2 (100 ng/mL) treatment–induced scratch closure was blocked by hypoxic CM in a manner similar to blockade by recombinant gremlin 1 and restored by anti-gremlin antibody (15 μg/mL). F, Scratch healing (mean±SEM) in all groups. Vehicle (Veh; n=9), gremlin (Grem; n=6), BMP2 (n=9), gremlin+BMP2 (n=6), hypoxic CM+BMP2 (n=6), BMP2+CM+anti-gremlin antibody (n=6). *P&lt;0.05 and **P&lt;0.01, significantly different from vehicle-treated cells. #P&lt;0.05 and ##P&lt;0.01, significantly different from BMP2-treated cells. $$P&lt;0.01, significantly different from hypoxic CM+BMP2-treated cell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7"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Hypoxia-induced increase in pulmonary vascular resistance (PVR) is reduced in grem1+/− mice. A, PVR (mean±SE) is reduced in hypoxic grem1+/− compared with hypoxic wild-type mice (n=17–20). B, The ratio (mean±SE) of right ventricular to left ventricular+septum weights (RV:LV+S) in response to sustained hypoxic exposure was significantly less in the grem1+/− mice compared with the wild-type group (n=9–10 per group). C, Hematocrit levels (mean±SE) were significantly increased to similar values in response to 3 weeks of hypoxic exposure in both wild-type and grem1+/− mice (n=9–10). D, The reduction in PVR induced by Rho kinase inhibition (Y27632; 10−5 mol/L; mean±SE) was similar in hypoxic wild-type and hypoxic grem1+/− mouse lungs (n=8). #P&lt;0.05 and ##&lt;0.01, significantly different from hypoxic wild-type groups. **P&lt;0.01, significantly different from matched normoxic group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9"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Grem1+/− mice show reduced pulmonary vascular remodeling. A, Representative images of small intra-acinar vessels (arrows) in wild-type and grem1+/− mice (×40 objective; scale bars=50 μm). B, Vessel wall thickness (median±interquartile range) within each vessel size category (based on lumen diameter) was significantly less in the smaller vessels in grem1+/− mice compared with wild-type mice after 3 weeks of hypoxic exposure (n=8 per group). C, The mean lumen diameter (mean±SE) was significantly decreased in wild-type mice after 3 weeks of hypoxic exposure but was not significantly altered in grem1+/− mice. D, The total length of intra-acinar vessels (median±interquartile range) was similar in both normoxic and hypoxic wild-type and grem1+/− groups. E, The volume of the vessel lumen (median±interquartile range) within each size category of vessel in normoxic and hypoxic condition in wild-type and grem1+/− mouse lungs and (F) the length of vessel (median±interquartile range) within each vessel category. Within the smallest category, volume and length were increased after sustained hypoxia, although these changes were significantly less in the grem1+/− group. #P&lt;0.05, significantly different from hypoxic wild-type group. *P&lt;0.05, significantly different from matched normoxic group of same genotyp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1"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Gremlin expression in the pulmonary vascular endothelium of lungs explanted from subjects with pulmonary arterial hypertension (PAH). Representative images of sections from 2 idiopathic PAH (IPAH; A and B), 2 rare heritable form of PAH (HPAH; C and D), and 4 control (E–H) lungs showing gremlin immunohistochemical staining (brown; arrowheads). Low-intensity staining was observed in vessels in control lungs; there was marked staining in the small remodeled vessels in the hypertensive lungs in a pattern compatible with endothelial localization (×100 objective; scale bar=20 μm). In plexiform lesions (I and L), endothelial immunostaining was variable (×40 objective; scale bar=100 μm), with some vascular channels demonstrating intense staining (J, K, and N) and others showing no staining (M; ×100 objective; scale bar=50 μ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4" name="PlaceHolder 2"/>
          <p:cNvSpPr>
            <a:spLocks noGrp="1"/>
          </p:cNvSpPr>
          <p:nvPr>
            <p:ph/>
          </p:nvPr>
        </p:nvSpPr>
        <p:spPr>
          <a:xfrm>
            <a:off x="739440" y="210132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5" name="PlaceHolder 3"/>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7"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8"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9"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0" name="PlaceHolder 5"/>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2" name="PlaceHolder 2"/>
          <p:cNvSpPr>
            <a:spLocks noGrp="1"/>
          </p:cNvSpPr>
          <p:nvPr>
            <p:ph/>
          </p:nvPr>
        </p:nvSpPr>
        <p:spPr>
          <a:xfrm>
            <a:off x="73944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3" name="PlaceHolder 3"/>
          <p:cNvSpPr>
            <a:spLocks noGrp="1"/>
          </p:cNvSpPr>
          <p:nvPr>
            <p:ph/>
          </p:nvPr>
        </p:nvSpPr>
        <p:spPr>
          <a:xfrm>
            <a:off x="364932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4" name="PlaceHolder 4"/>
          <p:cNvSpPr>
            <a:spLocks noGrp="1"/>
          </p:cNvSpPr>
          <p:nvPr>
            <p:ph/>
          </p:nvPr>
        </p:nvSpPr>
        <p:spPr>
          <a:xfrm>
            <a:off x="655920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5" name="PlaceHolder 5"/>
          <p:cNvSpPr>
            <a:spLocks noGrp="1"/>
          </p:cNvSpPr>
          <p:nvPr>
            <p:ph/>
          </p:nvPr>
        </p:nvSpPr>
        <p:spPr>
          <a:xfrm>
            <a:off x="73944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6" name="PlaceHolder 6"/>
          <p:cNvSpPr>
            <a:spLocks noGrp="1"/>
          </p:cNvSpPr>
          <p:nvPr>
            <p:ph/>
          </p:nvPr>
        </p:nvSpPr>
        <p:spPr>
          <a:xfrm>
            <a:off x="364932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7" name="PlaceHolder 7"/>
          <p:cNvSpPr>
            <a:spLocks noGrp="1"/>
          </p:cNvSpPr>
          <p:nvPr>
            <p:ph/>
          </p:nvPr>
        </p:nvSpPr>
        <p:spPr>
          <a:xfrm>
            <a:off x="655920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 name="PlaceHolder 2"/>
          <p:cNvSpPr>
            <a:spLocks noGrp="1"/>
          </p:cNvSpPr>
          <p:nvPr>
            <p:ph type="subTitle"/>
          </p:nvPr>
        </p:nvSpPr>
        <p:spPr>
          <a:xfrm>
            <a:off x="739440" y="2101320"/>
            <a:ext cx="8605800" cy="4761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5" name="PlaceHolder 2"/>
          <p:cNvSpPr>
            <a:spLocks noGrp="1"/>
          </p:cNvSpPr>
          <p:nvPr>
            <p:ph/>
          </p:nvPr>
        </p:nvSpPr>
        <p:spPr>
          <a:xfrm>
            <a:off x="739440" y="2101320"/>
            <a:ext cx="86058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7"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8"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739440" y="626760"/>
            <a:ext cx="8605800" cy="584352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2"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3"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4"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6"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7"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8" name="PlaceHolder 4"/>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0"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1"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2" name="PlaceHolder 4"/>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edit the title text format</a:t>
            </a:r>
            <a:endParaRPr b="1" lang="en-US" sz="2800" spc="-1" strike="noStrike">
              <a:solidFill>
                <a:srgbClr val="000000"/>
              </a:solidFill>
              <a:latin typeface="Times New Roman"/>
            </a:endParaRPr>
          </a:p>
        </p:txBody>
      </p:sp>
      <p:sp>
        <p:nvSpPr>
          <p:cNvPr id="1" name="PlaceHolder 2"/>
          <p:cNvSpPr>
            <a:spLocks noGrp="1"/>
          </p:cNvSpPr>
          <p:nvPr>
            <p:ph type="body"/>
          </p:nvPr>
        </p:nvSpPr>
        <p:spPr>
          <a:xfrm>
            <a:off x="739440" y="2101320"/>
            <a:ext cx="8605800" cy="4761000"/>
          </a:xfrm>
          <a:prstGeom prst="rect">
            <a:avLst/>
          </a:prstGeom>
          <a:noFill/>
          <a:ln w="0">
            <a:noFill/>
          </a:ln>
        </p:spPr>
        <p:txBody>
          <a:bodyPr lIns="0" rIns="0" tIns="0" bIns="0" anchor="t">
            <a:normAutofit/>
          </a:bodyPr>
          <a:p>
            <a:pPr marL="431640" indent="-323640">
              <a:lnSpc>
                <a:spcPct val="93000"/>
              </a:lnSpc>
              <a:spcAft>
                <a:spcPts val="887"/>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863640" indent="-28728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129528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727280" indent="-21600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739800" y="627120"/>
            <a:ext cx="8604360" cy="1262160"/>
          </a:xfrm>
          <a:prstGeom prst="rect">
            <a:avLst/>
          </a:prstGeom>
          <a:noFill/>
          <a:ln w="0">
            <a:noFill/>
          </a:ln>
        </p:spPr>
        <p:style>
          <a:lnRef idx="0"/>
          <a:fillRef idx="0"/>
          <a:effectRef idx="0"/>
          <a:fontRef idx="minor"/>
        </p:style>
        <p:txBody>
          <a:bodyPr lIns="0" rIns="0" tIns="0" bIns="0" anchor="b">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GB" sz="2400" spc="-1" strike="noStrike">
                <a:solidFill>
                  <a:srgbClr val="000000"/>
                </a:solidFill>
                <a:latin typeface="Arial"/>
              </a:rPr>
              <a:t>Gremlin Plays a Key Role in the Pathogenesis of Pulmonary HypertensionClinical Perspective</a:t>
            </a:r>
            <a:endParaRPr b="0" lang="en-US" sz="2400" spc="-1" strike="noStrike">
              <a:solidFill>
                <a:srgbClr val="000000"/>
              </a:solidFill>
              <a:latin typeface="Times New Roman"/>
            </a:endParaRPr>
          </a:p>
        </p:txBody>
      </p:sp>
      <p:sp>
        <p:nvSpPr>
          <p:cNvPr id="42" name=""/>
          <p:cNvSpPr/>
          <p:nvPr/>
        </p:nvSpPr>
        <p:spPr>
          <a:xfrm>
            <a:off x="739800" y="2259000"/>
            <a:ext cx="8604360" cy="302112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by Edwina Cahill, Christine M. Costello, Simon C. Rowan, Susan Harkin, Katherine Howell, Martin O. Leonard, Mark Southwood, Eoin P. Cummins, Susan F. Fitzpatrick, Cormac T. Taylor, Nicholas W. Morrell, Finian Martin, and Paul McLoughlin</a:t>
            </a:r>
            <a:endParaRPr b="0" lang="en-US" sz="1800" spc="-1" strike="noStrike">
              <a:solidFill>
                <a:srgbClr val="000000"/>
              </a:solidFill>
              <a:latin typeface="Times New Roman"/>
            </a:endParaRPr>
          </a:p>
        </p:txBody>
      </p:sp>
      <p:sp>
        <p:nvSpPr>
          <p:cNvPr id="43" name=""/>
          <p:cNvSpPr/>
          <p:nvPr/>
        </p:nvSpPr>
        <p:spPr>
          <a:xfrm>
            <a:off x="738360" y="5641920"/>
            <a:ext cx="8604000" cy="102384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Circulation</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Volume 125(7):920-930</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February 21, 2012</a:t>
            </a:r>
            <a:endParaRPr b="0" lang="en-US" sz="1800" spc="-1" strike="noStrike">
              <a:solidFill>
                <a:srgbClr val="000000"/>
              </a:solidFill>
              <a:latin typeface="Times New Roman"/>
            </a:endParaRPr>
          </a:p>
        </p:txBody>
      </p:sp>
      <p:sp>
        <p:nvSpPr>
          <p:cNvPr id="44" name=""/>
          <p:cNvSpPr/>
          <p:nvPr/>
        </p:nvSpPr>
        <p:spPr>
          <a:xfrm>
            <a:off x="5975280" y="7289640"/>
            <a:ext cx="399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Copyright © American Heart Association, Inc. All rights reserved.</a:t>
            </a:r>
            <a:endParaRPr b="0" lang="en-US" sz="1000" spc="-1" strike="noStrike">
              <a:solidFill>
                <a:srgbClr val="000000"/>
              </a:solidFill>
              <a:latin typeface="Times New Roman"/>
            </a:endParaRPr>
          </a:p>
        </p:txBody>
      </p:sp>
      <p:pic>
        <p:nvPicPr>
          <p:cNvPr id="45" name="" descr=""/>
          <p:cNvPicPr/>
          <p:nvPr/>
        </p:nvPicPr>
        <p:blipFill>
          <a:blip r:embed="rId1"/>
          <a:stretch/>
        </p:blipFill>
        <p:spPr>
          <a:xfrm>
            <a:off x="488880" y="6861240"/>
            <a:ext cx="1389240" cy="561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Gremlin is upregulated in the pulmonary vascular endothelium in hypoxic mice. </a:t>
            </a:r>
            <a:endParaRPr b="0" lang="en-US" sz="1600" spc="-1" strike="noStrike">
              <a:solidFill>
                <a:srgbClr val="000000"/>
              </a:solidFill>
              <a:latin typeface="Times New Roman"/>
            </a:endParaRPr>
          </a:p>
        </p:txBody>
      </p:sp>
      <p:pic>
        <p:nvPicPr>
          <p:cNvPr id="47" name="" descr=""/>
          <p:cNvPicPr/>
          <p:nvPr/>
        </p:nvPicPr>
        <p:blipFill>
          <a:blip r:embed="rId1"/>
          <a:stretch/>
        </p:blipFill>
        <p:spPr>
          <a:xfrm>
            <a:off x="488880" y="6861240"/>
            <a:ext cx="1389240" cy="561960"/>
          </a:xfrm>
          <a:prstGeom prst="rect">
            <a:avLst/>
          </a:prstGeom>
          <a:ln w="0">
            <a:noFill/>
          </a:ln>
        </p:spPr>
      </p:pic>
      <p:pic>
        <p:nvPicPr>
          <p:cNvPr id="48" name="" descr=""/>
          <p:cNvPicPr/>
          <p:nvPr/>
        </p:nvPicPr>
        <p:blipFill>
          <a:blip r:embed="rId2"/>
          <a:stretch/>
        </p:blipFill>
        <p:spPr>
          <a:xfrm>
            <a:off x="3070080" y="1079640"/>
            <a:ext cx="3945240" cy="5394240"/>
          </a:xfrm>
          <a:prstGeom prst="rect">
            <a:avLst/>
          </a:prstGeom>
          <a:ln w="0">
            <a:noFill/>
          </a:ln>
        </p:spPr>
      </p:pic>
      <p:sp>
        <p:nvSpPr>
          <p:cNvPr id="49" name=""/>
          <p:cNvSpPr/>
          <p:nvPr/>
        </p:nvSpPr>
        <p:spPr>
          <a:xfrm>
            <a:off x="307008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Edwina Cahill et al. Circulation. 2012;125:920-930</a:t>
            </a:r>
            <a:endParaRPr b="0" lang="en-US" sz="1200" spc="-1" strike="noStrike">
              <a:solidFill>
                <a:srgbClr val="000000"/>
              </a:solidFill>
              <a:latin typeface="Times New Roman"/>
            </a:endParaRPr>
          </a:p>
        </p:txBody>
      </p:sp>
      <p:sp>
        <p:nvSpPr>
          <p:cNvPr id="50" name=""/>
          <p:cNvSpPr/>
          <p:nvPr/>
        </p:nvSpPr>
        <p:spPr>
          <a:xfrm>
            <a:off x="5975280" y="7289640"/>
            <a:ext cx="399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Copyright © American Heart Association, Inc. All rights reserved.</a:t>
            </a:r>
            <a:endParaRPr b="0" lang="en-US" sz="1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Bone morphometric protein (BMP) ligands and receptors (BMPRs) are altered in response to hypoxia. </a:t>
            </a:r>
            <a:endParaRPr b="0" lang="en-US" sz="1600" spc="-1" strike="noStrike">
              <a:solidFill>
                <a:srgbClr val="000000"/>
              </a:solidFill>
              <a:latin typeface="Times New Roman"/>
            </a:endParaRPr>
          </a:p>
        </p:txBody>
      </p:sp>
      <p:pic>
        <p:nvPicPr>
          <p:cNvPr id="52" name="" descr=""/>
          <p:cNvPicPr/>
          <p:nvPr/>
        </p:nvPicPr>
        <p:blipFill>
          <a:blip r:embed="rId1"/>
          <a:stretch/>
        </p:blipFill>
        <p:spPr>
          <a:xfrm>
            <a:off x="488880" y="6861240"/>
            <a:ext cx="1389240" cy="561960"/>
          </a:xfrm>
          <a:prstGeom prst="rect">
            <a:avLst/>
          </a:prstGeom>
          <a:ln w="0">
            <a:noFill/>
          </a:ln>
        </p:spPr>
      </p:pic>
      <p:pic>
        <p:nvPicPr>
          <p:cNvPr id="53" name="" descr=""/>
          <p:cNvPicPr/>
          <p:nvPr/>
        </p:nvPicPr>
        <p:blipFill>
          <a:blip r:embed="rId2"/>
          <a:stretch/>
        </p:blipFill>
        <p:spPr>
          <a:xfrm>
            <a:off x="1546200" y="1079640"/>
            <a:ext cx="6991200" cy="5394240"/>
          </a:xfrm>
          <a:prstGeom prst="rect">
            <a:avLst/>
          </a:prstGeom>
          <a:ln w="0">
            <a:noFill/>
          </a:ln>
        </p:spPr>
      </p:pic>
      <p:sp>
        <p:nvSpPr>
          <p:cNvPr id="54" name=""/>
          <p:cNvSpPr/>
          <p:nvPr/>
        </p:nvSpPr>
        <p:spPr>
          <a:xfrm>
            <a:off x="15462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Edwina Cahill et al. Circulation. 2012;125:920-930</a:t>
            </a:r>
            <a:endParaRPr b="0" lang="en-US" sz="1200" spc="-1" strike="noStrike">
              <a:solidFill>
                <a:srgbClr val="000000"/>
              </a:solidFill>
              <a:latin typeface="Times New Roman"/>
            </a:endParaRPr>
          </a:p>
        </p:txBody>
      </p:sp>
      <p:sp>
        <p:nvSpPr>
          <p:cNvPr id="55" name=""/>
          <p:cNvSpPr/>
          <p:nvPr/>
        </p:nvSpPr>
        <p:spPr>
          <a:xfrm>
            <a:off x="5975280" y="7289640"/>
            <a:ext cx="399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Copyright © American Heart Association, Inc. All rights reserved.</a:t>
            </a:r>
            <a:endParaRPr b="0" lang="en-US" sz="1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Hypoxia-induced increases in gremlin 1 expression in pulmonary endothelial cells required hypoxia-inducible factor (HIF)-2α. </a:t>
            </a:r>
            <a:endParaRPr b="0" lang="en-US" sz="1600" spc="-1" strike="noStrike">
              <a:solidFill>
                <a:srgbClr val="000000"/>
              </a:solidFill>
              <a:latin typeface="Times New Roman"/>
            </a:endParaRPr>
          </a:p>
        </p:txBody>
      </p:sp>
      <p:pic>
        <p:nvPicPr>
          <p:cNvPr id="57" name="" descr=""/>
          <p:cNvPicPr/>
          <p:nvPr/>
        </p:nvPicPr>
        <p:blipFill>
          <a:blip r:embed="rId1"/>
          <a:stretch/>
        </p:blipFill>
        <p:spPr>
          <a:xfrm>
            <a:off x="488880" y="6861240"/>
            <a:ext cx="1389240" cy="561960"/>
          </a:xfrm>
          <a:prstGeom prst="rect">
            <a:avLst/>
          </a:prstGeom>
          <a:ln w="0">
            <a:noFill/>
          </a:ln>
        </p:spPr>
      </p:pic>
      <p:pic>
        <p:nvPicPr>
          <p:cNvPr id="58" name="" descr=""/>
          <p:cNvPicPr/>
          <p:nvPr/>
        </p:nvPicPr>
        <p:blipFill>
          <a:blip r:embed="rId2"/>
          <a:stretch/>
        </p:blipFill>
        <p:spPr>
          <a:xfrm>
            <a:off x="739800" y="1322280"/>
            <a:ext cx="8604360" cy="4908600"/>
          </a:xfrm>
          <a:prstGeom prst="rect">
            <a:avLst/>
          </a:prstGeom>
          <a:ln w="0">
            <a:noFill/>
          </a:ln>
        </p:spPr>
      </p:pic>
      <p:sp>
        <p:nvSpPr>
          <p:cNvPr id="59" name=""/>
          <p:cNvSpPr/>
          <p:nvPr/>
        </p:nvSpPr>
        <p:spPr>
          <a:xfrm>
            <a:off x="7398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Edwina Cahill et al. Circulation. 2012;125:920-930</a:t>
            </a:r>
            <a:endParaRPr b="0" lang="en-US" sz="1200" spc="-1" strike="noStrike">
              <a:solidFill>
                <a:srgbClr val="000000"/>
              </a:solidFill>
              <a:latin typeface="Times New Roman"/>
            </a:endParaRPr>
          </a:p>
        </p:txBody>
      </p:sp>
      <p:sp>
        <p:nvSpPr>
          <p:cNvPr id="60" name=""/>
          <p:cNvSpPr/>
          <p:nvPr/>
        </p:nvSpPr>
        <p:spPr>
          <a:xfrm>
            <a:off x="5975280" y="7289640"/>
            <a:ext cx="399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Copyright © American Heart Association, Inc. All rights reserved.</a:t>
            </a:r>
            <a:endParaRPr b="0" lang="en-US" sz="1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358920" y="420840"/>
            <a:ext cx="9362880" cy="67788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Endogenous gremlin 1 expression and bone morphometric protein (BMP) 2, BMP4, and BMP signaling are altered in human pulmonary microvascular endothelial cells in response to hypoxia (2 days). </a:t>
            </a:r>
            <a:endParaRPr b="0" lang="en-US" sz="1600" spc="-1" strike="noStrike">
              <a:solidFill>
                <a:srgbClr val="000000"/>
              </a:solidFill>
              <a:latin typeface="Times New Roman"/>
            </a:endParaRPr>
          </a:p>
        </p:txBody>
      </p:sp>
      <p:pic>
        <p:nvPicPr>
          <p:cNvPr id="62" name="" descr=""/>
          <p:cNvPicPr/>
          <p:nvPr/>
        </p:nvPicPr>
        <p:blipFill>
          <a:blip r:embed="rId1"/>
          <a:stretch/>
        </p:blipFill>
        <p:spPr>
          <a:xfrm>
            <a:off x="488880" y="6861240"/>
            <a:ext cx="1389240" cy="561960"/>
          </a:xfrm>
          <a:prstGeom prst="rect">
            <a:avLst/>
          </a:prstGeom>
          <a:ln w="0">
            <a:noFill/>
          </a:ln>
        </p:spPr>
      </p:pic>
      <p:pic>
        <p:nvPicPr>
          <p:cNvPr id="63" name="" descr=""/>
          <p:cNvPicPr/>
          <p:nvPr/>
        </p:nvPicPr>
        <p:blipFill>
          <a:blip r:embed="rId2"/>
          <a:stretch/>
        </p:blipFill>
        <p:spPr>
          <a:xfrm>
            <a:off x="2173320" y="1079640"/>
            <a:ext cx="5738760" cy="5394240"/>
          </a:xfrm>
          <a:prstGeom prst="rect">
            <a:avLst/>
          </a:prstGeom>
          <a:ln w="0">
            <a:noFill/>
          </a:ln>
        </p:spPr>
      </p:pic>
      <p:sp>
        <p:nvSpPr>
          <p:cNvPr id="64" name=""/>
          <p:cNvSpPr/>
          <p:nvPr/>
        </p:nvSpPr>
        <p:spPr>
          <a:xfrm>
            <a:off x="217332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Edwina Cahill et al. Circulation. 2012;125:920-930</a:t>
            </a:r>
            <a:endParaRPr b="0" lang="en-US" sz="1200" spc="-1" strike="noStrike">
              <a:solidFill>
                <a:srgbClr val="000000"/>
              </a:solidFill>
              <a:latin typeface="Times New Roman"/>
            </a:endParaRPr>
          </a:p>
        </p:txBody>
      </p:sp>
      <p:sp>
        <p:nvSpPr>
          <p:cNvPr id="65" name=""/>
          <p:cNvSpPr/>
          <p:nvPr/>
        </p:nvSpPr>
        <p:spPr>
          <a:xfrm>
            <a:off x="5975280" y="7289640"/>
            <a:ext cx="399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Copyright © American Heart Association, Inc. All rights reserved.</a:t>
            </a:r>
            <a:endParaRPr b="0" lang="en-US" sz="1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Hypoxia-induced gremlin 1 secretion blocks bone morphometric protein (BMP) signaling and scratch closure in pulmonary microvascular endothelial cells. </a:t>
            </a:r>
            <a:endParaRPr b="0" lang="en-US" sz="1600" spc="-1" strike="noStrike">
              <a:solidFill>
                <a:srgbClr val="000000"/>
              </a:solidFill>
              <a:latin typeface="Times New Roman"/>
            </a:endParaRPr>
          </a:p>
        </p:txBody>
      </p:sp>
      <p:pic>
        <p:nvPicPr>
          <p:cNvPr id="67" name="" descr=""/>
          <p:cNvPicPr/>
          <p:nvPr/>
        </p:nvPicPr>
        <p:blipFill>
          <a:blip r:embed="rId1"/>
          <a:stretch/>
        </p:blipFill>
        <p:spPr>
          <a:xfrm>
            <a:off x="488880" y="6861240"/>
            <a:ext cx="1389240" cy="561960"/>
          </a:xfrm>
          <a:prstGeom prst="rect">
            <a:avLst/>
          </a:prstGeom>
          <a:ln w="0">
            <a:noFill/>
          </a:ln>
        </p:spPr>
      </p:pic>
      <p:pic>
        <p:nvPicPr>
          <p:cNvPr id="68" name="" descr=""/>
          <p:cNvPicPr/>
          <p:nvPr/>
        </p:nvPicPr>
        <p:blipFill>
          <a:blip r:embed="rId2"/>
          <a:stretch/>
        </p:blipFill>
        <p:spPr>
          <a:xfrm>
            <a:off x="3090960" y="1079640"/>
            <a:ext cx="3905280" cy="5394240"/>
          </a:xfrm>
          <a:prstGeom prst="rect">
            <a:avLst/>
          </a:prstGeom>
          <a:ln w="0">
            <a:noFill/>
          </a:ln>
        </p:spPr>
      </p:pic>
      <p:sp>
        <p:nvSpPr>
          <p:cNvPr id="69" name=""/>
          <p:cNvSpPr/>
          <p:nvPr/>
        </p:nvSpPr>
        <p:spPr>
          <a:xfrm>
            <a:off x="309096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Edwina Cahill et al. Circulation. 2012;125:920-930</a:t>
            </a:r>
            <a:endParaRPr b="0" lang="en-US" sz="1200" spc="-1" strike="noStrike">
              <a:solidFill>
                <a:srgbClr val="000000"/>
              </a:solidFill>
              <a:latin typeface="Times New Roman"/>
            </a:endParaRPr>
          </a:p>
        </p:txBody>
      </p:sp>
      <p:sp>
        <p:nvSpPr>
          <p:cNvPr id="70" name=""/>
          <p:cNvSpPr/>
          <p:nvPr/>
        </p:nvSpPr>
        <p:spPr>
          <a:xfrm>
            <a:off x="5975280" y="7289640"/>
            <a:ext cx="399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Copyright © American Heart Association, Inc. All rights reserved.</a:t>
            </a:r>
            <a:endParaRPr b="0" lang="en-US" sz="10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Hypoxia-induced increase in pulmonary vascular resistance (PVR) is reduced in grem1+/− mice. </a:t>
            </a:r>
            <a:endParaRPr b="0" lang="en-US" sz="1600" spc="-1" strike="noStrike">
              <a:solidFill>
                <a:srgbClr val="000000"/>
              </a:solidFill>
              <a:latin typeface="Times New Roman"/>
            </a:endParaRPr>
          </a:p>
        </p:txBody>
      </p:sp>
      <p:pic>
        <p:nvPicPr>
          <p:cNvPr id="72" name="" descr=""/>
          <p:cNvPicPr/>
          <p:nvPr/>
        </p:nvPicPr>
        <p:blipFill>
          <a:blip r:embed="rId1"/>
          <a:stretch/>
        </p:blipFill>
        <p:spPr>
          <a:xfrm>
            <a:off x="488880" y="6861240"/>
            <a:ext cx="1389240" cy="561960"/>
          </a:xfrm>
          <a:prstGeom prst="rect">
            <a:avLst/>
          </a:prstGeom>
          <a:ln w="0">
            <a:noFill/>
          </a:ln>
        </p:spPr>
      </p:pic>
      <p:pic>
        <p:nvPicPr>
          <p:cNvPr id="73" name="" descr=""/>
          <p:cNvPicPr/>
          <p:nvPr/>
        </p:nvPicPr>
        <p:blipFill>
          <a:blip r:embed="rId2"/>
          <a:stretch/>
        </p:blipFill>
        <p:spPr>
          <a:xfrm>
            <a:off x="1281240" y="1079640"/>
            <a:ext cx="7521480" cy="5394240"/>
          </a:xfrm>
          <a:prstGeom prst="rect">
            <a:avLst/>
          </a:prstGeom>
          <a:ln w="0">
            <a:noFill/>
          </a:ln>
        </p:spPr>
      </p:pic>
      <p:sp>
        <p:nvSpPr>
          <p:cNvPr id="74" name=""/>
          <p:cNvSpPr/>
          <p:nvPr/>
        </p:nvSpPr>
        <p:spPr>
          <a:xfrm>
            <a:off x="128124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Edwina Cahill et al. Circulation. 2012;125:920-930</a:t>
            </a:r>
            <a:endParaRPr b="0" lang="en-US" sz="1200" spc="-1" strike="noStrike">
              <a:solidFill>
                <a:srgbClr val="000000"/>
              </a:solidFill>
              <a:latin typeface="Times New Roman"/>
            </a:endParaRPr>
          </a:p>
        </p:txBody>
      </p:sp>
      <p:sp>
        <p:nvSpPr>
          <p:cNvPr id="75" name=""/>
          <p:cNvSpPr/>
          <p:nvPr/>
        </p:nvSpPr>
        <p:spPr>
          <a:xfrm>
            <a:off x="5975280" y="7289640"/>
            <a:ext cx="399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Copyright © American Heart Association, Inc. All rights reserved.</a:t>
            </a:r>
            <a:endParaRPr b="0" lang="en-US" sz="10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Grem1+/− mice show reduced pulmonary vascular remodeling. </a:t>
            </a:r>
            <a:endParaRPr b="0" lang="en-US" sz="1600" spc="-1" strike="noStrike">
              <a:solidFill>
                <a:srgbClr val="000000"/>
              </a:solidFill>
              <a:latin typeface="Times New Roman"/>
            </a:endParaRPr>
          </a:p>
        </p:txBody>
      </p:sp>
      <p:pic>
        <p:nvPicPr>
          <p:cNvPr id="77" name="" descr=""/>
          <p:cNvPicPr/>
          <p:nvPr/>
        </p:nvPicPr>
        <p:blipFill>
          <a:blip r:embed="rId1"/>
          <a:stretch/>
        </p:blipFill>
        <p:spPr>
          <a:xfrm>
            <a:off x="488880" y="6861240"/>
            <a:ext cx="1389240" cy="561960"/>
          </a:xfrm>
          <a:prstGeom prst="rect">
            <a:avLst/>
          </a:prstGeom>
          <a:ln w="0">
            <a:noFill/>
          </a:ln>
        </p:spPr>
      </p:pic>
      <p:pic>
        <p:nvPicPr>
          <p:cNvPr id="78" name="" descr=""/>
          <p:cNvPicPr/>
          <p:nvPr/>
        </p:nvPicPr>
        <p:blipFill>
          <a:blip r:embed="rId2"/>
          <a:stretch/>
        </p:blipFill>
        <p:spPr>
          <a:xfrm>
            <a:off x="1951200" y="1079640"/>
            <a:ext cx="6181560" cy="5394240"/>
          </a:xfrm>
          <a:prstGeom prst="rect">
            <a:avLst/>
          </a:prstGeom>
          <a:ln w="0">
            <a:noFill/>
          </a:ln>
        </p:spPr>
      </p:pic>
      <p:sp>
        <p:nvSpPr>
          <p:cNvPr id="79" name=""/>
          <p:cNvSpPr/>
          <p:nvPr/>
        </p:nvSpPr>
        <p:spPr>
          <a:xfrm>
            <a:off x="1951200" y="6583320"/>
            <a:ext cx="431928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Edwina Cahill et al. Circulation. 2012;125:920-930</a:t>
            </a:r>
            <a:endParaRPr b="0" lang="en-US" sz="1200" spc="-1" strike="noStrike">
              <a:solidFill>
                <a:srgbClr val="000000"/>
              </a:solidFill>
              <a:latin typeface="Times New Roman"/>
            </a:endParaRPr>
          </a:p>
        </p:txBody>
      </p:sp>
      <p:sp>
        <p:nvSpPr>
          <p:cNvPr id="80" name=""/>
          <p:cNvSpPr/>
          <p:nvPr/>
        </p:nvSpPr>
        <p:spPr>
          <a:xfrm>
            <a:off x="5975280" y="7289640"/>
            <a:ext cx="399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Copyright © American Heart Association, Inc. All rights reserved.</a:t>
            </a:r>
            <a:endParaRPr b="0" lang="en-US" sz="10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Gremlin expression in the pulmonary vascular endothelium of lungs explanted from subjects with pulmonary arterial hypertension (PAH). </a:t>
            </a:r>
            <a:endParaRPr b="0" lang="en-US" sz="1600" spc="-1" strike="noStrike">
              <a:solidFill>
                <a:srgbClr val="000000"/>
              </a:solidFill>
              <a:latin typeface="Times New Roman"/>
            </a:endParaRPr>
          </a:p>
        </p:txBody>
      </p:sp>
      <p:pic>
        <p:nvPicPr>
          <p:cNvPr id="82" name="" descr=""/>
          <p:cNvPicPr/>
          <p:nvPr/>
        </p:nvPicPr>
        <p:blipFill>
          <a:blip r:embed="rId1"/>
          <a:stretch/>
        </p:blipFill>
        <p:spPr>
          <a:xfrm>
            <a:off x="488880" y="6861240"/>
            <a:ext cx="1389240" cy="561960"/>
          </a:xfrm>
          <a:prstGeom prst="rect">
            <a:avLst/>
          </a:prstGeom>
          <a:ln w="0">
            <a:noFill/>
          </a:ln>
        </p:spPr>
      </p:pic>
      <p:pic>
        <p:nvPicPr>
          <p:cNvPr id="83" name="" descr=""/>
          <p:cNvPicPr/>
          <p:nvPr/>
        </p:nvPicPr>
        <p:blipFill>
          <a:blip r:embed="rId2"/>
          <a:stretch/>
        </p:blipFill>
        <p:spPr>
          <a:xfrm>
            <a:off x="2179800" y="1079640"/>
            <a:ext cx="5725800" cy="5394240"/>
          </a:xfrm>
          <a:prstGeom prst="rect">
            <a:avLst/>
          </a:prstGeom>
          <a:ln w="0">
            <a:noFill/>
          </a:ln>
        </p:spPr>
      </p:pic>
      <p:sp>
        <p:nvSpPr>
          <p:cNvPr id="84" name=""/>
          <p:cNvSpPr/>
          <p:nvPr/>
        </p:nvSpPr>
        <p:spPr>
          <a:xfrm>
            <a:off x="2179800" y="6583320"/>
            <a:ext cx="431928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Edwina Cahill et al. Circulation. 2012;125:920-930</a:t>
            </a:r>
            <a:endParaRPr b="0" lang="en-US" sz="1200" spc="-1" strike="noStrike">
              <a:solidFill>
                <a:srgbClr val="000000"/>
              </a:solidFill>
              <a:latin typeface="Times New Roman"/>
            </a:endParaRPr>
          </a:p>
        </p:txBody>
      </p:sp>
      <p:sp>
        <p:nvSpPr>
          <p:cNvPr id="85" name=""/>
          <p:cNvSpPr/>
          <p:nvPr/>
        </p:nvSpPr>
        <p:spPr>
          <a:xfrm>
            <a:off x="5975280" y="7289640"/>
            <a:ext cx="399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Copyright © American Heart Association, Inc. All rights reserved.</a:t>
            </a:r>
            <a:endParaRPr b="0" lang="en-US" sz="1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