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atio of soluble fms-like tyrosine kinase 1 (sFlt1) to placental growth factor (PlGF) at presentation. A and B, The distribution of natural log-transformed sFlt1/PlGF ratios at initial presentation by subsequent diagnosis. Diagnoses were ascertained 2 weeks after presentation according to American Congress of Obstetricians and Gynecologists criteria. A, Distribution among all participants. B, Distribution among participants presenting at &lt;34 weeks' gestation. NHD indicates no hypertensive disorder; CHTN, chronic hypertension; GHTN, gestational hypertension; and PE, preeclampsi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atio of soluble fms-like tyrosine kinase 1 (sFlt1) to placental growth factor (PlGF) and adverse outcomes. The distribution of natural log-transformed sFlt1/PlGF ratios at initial presentation by subsequent adverse outcomes is shown. Adverse outcomes were ascertained 2 weeks after presentation. A, Distribution in all participants. B, Distribution among only participants presenting at &lt;34 weeks' gestation. C, Individual adverse outcomes in women presenting at &lt;34 weeks' gestation. Placental abruption, elevated liver enzymes and/or low platelets (LFTs/PLTs), and small-for-gestational-age birth weight and/or absent/reversed umbilical artery Doppler (SGA/Doppler) were associated with elevated log-transformed sFlt1/PlGF ratio. The red reference line denotes an sFlt1/PlGF ratio of 85. Participants with &gt;1 adverse outcome (n=5) were assigned to the abruption group or the SGA/Doppler group. Reassignment of these participants to other groups had no effect on the significance of the resul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redictive accuracy and correlation with duration of pregnancy of the ratio of soluble fms-like tyrosine kinase 1 (sFlt1) to placental growth factor (PlGF). A, Receiver-operating characteristic curves for the prediction of adverse outcomes with the sFlt1/PlGF ratio, alanine aminotransferase (ALT), uric acid, highest systolic blood pressure measured in triage (SBP), and creatinine in patients presenting at &lt;34 weeks' gestation. All laboratory values were measured in blood collected at the time of presentation. The area under the curve (AUC) is given for each potential predictor in the legend. All AUCs were significantly different from that of the sFlt1/PlGF ratio alone (P&lt;0.01). B, Time from presentation to delivery plotted vs the sFlt1/PlGF ratio at presentation in participants presenting at &lt;34 weeks' gestation. r=−0.71, P&lt;0.0001. C, Kaplan-Meier survival function for time to delivery in participants presenting at &lt;34 weeks' gestation. Patients were censored at delivery or at 34 weeks' gest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Angiogenic Factors and the Risk of Adverse Outcomes in Women With Suspected PreeclampsiaClinical Perspective</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Sarosh Rana, Camille E. Powe, Saira Salahuddin, Stefan Verlohren, Frank H. Perschel, Richard J. Levine, Kee-Hak Lim, Julia B. Wenger, Ravi Thadhani, and S. Ananth Karumanchi</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Circulation</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25(7):911-919</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February 21, 2012</a:t>
            </a:r>
            <a:endParaRPr b="0" lang="en-US" sz="1800" spc="-1" strike="noStrike">
              <a:solidFill>
                <a:srgbClr val="000000"/>
              </a:solidFill>
              <a:latin typeface="Times New Roman"/>
            </a:endParaRPr>
          </a:p>
        </p:txBody>
      </p:sp>
      <p:sp>
        <p:nvSpPr>
          <p:cNvPr id="44"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488880" y="6861240"/>
            <a:ext cx="1389240" cy="561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atio of soluble fms-like tyrosine kinase 1 (sFlt1) to placental growth factor (PlGF) at presentation.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488880" y="6861240"/>
            <a:ext cx="1389240" cy="561960"/>
          </a:xfrm>
          <a:prstGeom prst="rect">
            <a:avLst/>
          </a:prstGeom>
          <a:ln w="0">
            <a:noFill/>
          </a:ln>
        </p:spPr>
      </p:pic>
      <p:pic>
        <p:nvPicPr>
          <p:cNvPr id="48" name="" descr=""/>
          <p:cNvPicPr/>
          <p:nvPr/>
        </p:nvPicPr>
        <p:blipFill>
          <a:blip r:embed="rId2"/>
          <a:stretch/>
        </p:blipFill>
        <p:spPr>
          <a:xfrm>
            <a:off x="739800" y="1941480"/>
            <a:ext cx="8604360" cy="3670200"/>
          </a:xfrm>
          <a:prstGeom prst="rect">
            <a:avLst/>
          </a:prstGeom>
          <a:ln w="0">
            <a:noFill/>
          </a:ln>
        </p:spPr>
      </p:pic>
      <p:sp>
        <p:nvSpPr>
          <p:cNvPr id="4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arosh Rana et al. Circulation. 2012;125:911-919</a:t>
            </a:r>
            <a:endParaRPr b="0" lang="en-US" sz="1200" spc="-1" strike="noStrike">
              <a:solidFill>
                <a:srgbClr val="000000"/>
              </a:solidFill>
              <a:latin typeface="Times New Roman"/>
            </a:endParaRPr>
          </a:p>
        </p:txBody>
      </p:sp>
      <p:sp>
        <p:nvSpPr>
          <p:cNvPr id="5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atio of soluble fms-like tyrosine kinase 1 (sFlt1) to placental growth factor (PlGF) and adverse outcome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488880" y="6861240"/>
            <a:ext cx="1389240" cy="561960"/>
          </a:xfrm>
          <a:prstGeom prst="rect">
            <a:avLst/>
          </a:prstGeom>
          <a:ln w="0">
            <a:noFill/>
          </a:ln>
        </p:spPr>
      </p:pic>
      <p:pic>
        <p:nvPicPr>
          <p:cNvPr id="53" name="" descr=""/>
          <p:cNvPicPr/>
          <p:nvPr/>
        </p:nvPicPr>
        <p:blipFill>
          <a:blip r:embed="rId2"/>
          <a:stretch/>
        </p:blipFill>
        <p:spPr>
          <a:xfrm>
            <a:off x="1998720" y="1079640"/>
            <a:ext cx="6089760" cy="5394240"/>
          </a:xfrm>
          <a:prstGeom prst="rect">
            <a:avLst/>
          </a:prstGeom>
          <a:ln w="0">
            <a:noFill/>
          </a:ln>
        </p:spPr>
      </p:pic>
      <p:sp>
        <p:nvSpPr>
          <p:cNvPr id="54" name=""/>
          <p:cNvSpPr/>
          <p:nvPr/>
        </p:nvSpPr>
        <p:spPr>
          <a:xfrm>
            <a:off x="19987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arosh Rana et al. Circulation. 2012;125:911-919</a:t>
            </a:r>
            <a:endParaRPr b="0" lang="en-US" sz="1200" spc="-1" strike="noStrike">
              <a:solidFill>
                <a:srgbClr val="000000"/>
              </a:solidFill>
              <a:latin typeface="Times New Roman"/>
            </a:endParaRPr>
          </a:p>
        </p:txBody>
      </p:sp>
      <p:sp>
        <p:nvSpPr>
          <p:cNvPr id="5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redictive accuracy and correlation with duration of pregnancy of the ratio of soluble fms-like tyrosine kinase 1 (sFlt1) to placental growth factor (PlGF).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488880" y="6861240"/>
            <a:ext cx="1389240" cy="561960"/>
          </a:xfrm>
          <a:prstGeom prst="rect">
            <a:avLst/>
          </a:prstGeom>
          <a:ln w="0">
            <a:noFill/>
          </a:ln>
        </p:spPr>
      </p:pic>
      <p:pic>
        <p:nvPicPr>
          <p:cNvPr id="58" name="" descr=""/>
          <p:cNvPicPr/>
          <p:nvPr/>
        </p:nvPicPr>
        <p:blipFill>
          <a:blip r:embed="rId2"/>
          <a:stretch/>
        </p:blipFill>
        <p:spPr>
          <a:xfrm>
            <a:off x="2058840" y="1079640"/>
            <a:ext cx="5969160" cy="5394240"/>
          </a:xfrm>
          <a:prstGeom prst="rect">
            <a:avLst/>
          </a:prstGeom>
          <a:ln w="0">
            <a:noFill/>
          </a:ln>
        </p:spPr>
      </p:pic>
      <p:sp>
        <p:nvSpPr>
          <p:cNvPr id="59" name=""/>
          <p:cNvSpPr/>
          <p:nvPr/>
        </p:nvSpPr>
        <p:spPr>
          <a:xfrm>
            <a:off x="20588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arosh Rana et al. Circulation. 2012;125:911-919</a:t>
            </a:r>
            <a:endParaRPr b="0" lang="en-US" sz="1200" spc="-1" strike="noStrike">
              <a:solidFill>
                <a:srgbClr val="000000"/>
              </a:solidFill>
              <a:latin typeface="Times New Roman"/>
            </a:endParaRPr>
          </a:p>
        </p:txBody>
      </p:sp>
      <p:sp>
        <p:nvSpPr>
          <p:cNvPr id="6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