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dds ratio for metabolic syndrome (MetS) in adolescence according to percentiles of birth weight. Birth weight more than the 90th percentile was considered the reference level, ie, with the lowest probability for MetS. §Nonsignificant; *P&lt;0.05; **P&lt;0.01; ***P&lt;0.001. 95% Confidence intervals are given in parenthe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etabolic Syndrome in Adolescence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tamatis P. Efstathiou, Irini I. Skeva, Evi Zorbala, Evangelos Georgiou, and Theodore D. Mountokalak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5(7):902-91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1, 2012</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dds ratio for metabolic syndrome (MetS) in adolescence according to percentiles of birth weigh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1139760" y="1079640"/>
            <a:ext cx="7805880" cy="5394240"/>
          </a:xfrm>
          <a:prstGeom prst="rect">
            <a:avLst/>
          </a:prstGeom>
          <a:ln w="0">
            <a:noFill/>
          </a:ln>
        </p:spPr>
      </p:pic>
      <p:sp>
        <p:nvSpPr>
          <p:cNvPr id="49" name=""/>
          <p:cNvSpPr/>
          <p:nvPr/>
        </p:nvSpPr>
        <p:spPr>
          <a:xfrm>
            <a:off x="1139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amatis P. Efstathiou et al. Circulation. 2012;125:902-910</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