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Direct relationship between atherosclerosis and proprotein convertase subtilisin/kexin type 9 (PCSK9) in mice. C57BL/6 male mice that express no PCSK9 (knockout [KO]), normal levels (wild-type [WT]), and high levels of murine PCSK9 (transgenic [Tg]) were fed a Western diet for 12 months (n=5–6 mice per genotype). A, Plasma cholesterol. B, Fast protein liquid chromatography cholesterol profiles (pooled plasma); very low-density lipoprotein (VLDL), low-density lipoprotein (LDL), and high-density lipoprotein (HDL) fractions are indicated. C, Cholesteryl (Chol.) ester accumulation in the whole aorta. D, Representative en face preparations of aortic arches. E, Cumulative plaque size at the level of aortic valves and root. Bars and error bars represent mean±SD; by comparison with WT values, P (***P≤0.001) was obtained with a 2-tailed Student t tes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nalysis of intima-media thickness (IMT). IMT was determined at the level of aortic valves and root, in the ascending aorta, and in the brachiocephalic artery (BCA) by ultrasound biomicroscopy. A, Proprotein convertase subtilisin/kexin type 9 (PCSK9) knockout (KO), wild-type (WT), or transgenic (Tg) mice fed a Western diet for 12 months (n=5). B, Apolipoprotein E (apoE)–deficient mice expressing either no (KO/e), normal (WT/e), or high (Tg/e) levels of PCSK9 fed a regular diet for 6 months (n=10–12). C, Low-density lipoprotein receptor (LDLR)–deficient mice expressing either no (KO/L), normal (WT/L), or high (Tg/L) levels of PCSK9 fed a Western diet for 3 months (n=8–10). Bars and error bars represent mean±SD; by comparison with corresponding WT values (gray bars), P (***P≤0.001) was obtained with a 2-tailed Student t tes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6"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he absence of proprotein convertase subtilisin/kexin type 9 (PCSK9) protects apolipoprotein E (apoE)–deficient mice from atherosclerosis. ApoE-deficient male mice expressing null (knockout [KO]/e), normal (wild-type [WT]/e), or high (transgenic [Tg]/e) levels of PCSK9 were fed a normal diet for 6 months. A, Plasma cholesterol (n=10–13). B, Fast protein liquid chromatography cholesterol profiles (pooled plasma from 10 mice per genotype). C, Cholesteryl (Chol.) ester accumulation in the whole aorta (n=11–15). D, Representative en face preparations of aortic arches. E, Cumulative plaque surface at the level of aortic valves and root (n=9–15). Bars and error bars represent mean±SD; by comparison with WT/e values, P (**P≤0.01; ***P≤0.001) was obtained with a 2-tailed Student t tes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ime course study of the protective effect of proprotein convertase subtilisin/kexin type 9 (PCSK9) in apolipoprotein E (apoE)–deficient mice. ApoE-deficient male mice expressing null (knockout [KO]/e), normal (wild-type [WT]/e), or high (transgenic [Tg]/e) PCSK9 levels were fed a normal diet for 3, 6, or 12 months from weaning (at ≈1 month of age) to euthanasia at 4, 7, or 13 months of age, respectively. Cholesteryl ester (CE) contents (mean±SD) of aortas were determined (n=10–12 mice per point). Note that data at 7 months correspond to those presented in Figure 3C. Symbols and error bars represent mean−SD; by comparison with WT/e values, P (*P≤0.05; ***P≤0.001) was obtained with a 2-tailed Student t test. Least squares fit exponential curves were obtained with the use of GraphPad Prism Software (version 5.04); r2=0.71, 0.69, and 0.78 for KO/e, WT/e, and Tg/e curves, respectively.</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0"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Proprotein convertase subtilisin/kexin type 9 (PCSK9) modulates atherosclerosis essentially via the low-density lipoprotein receptor. Low-density lipoprotein receptor–deficient mice expressing null (knockout [KO]/e), normal (wild-type [WT]/e), or high (transgenic [Tg]/e) PCSK9 levels were fed a Western diet for 3 months. A, Plasma cholesterol (n=7–15). B, Fast protein liquid chromatography cholesterol profiles (pooled plasma from 6–9 mice per genotype). C, Cholesteryl (Chol.) ester accumulation in the whole aorta (n=7–13). D, Representative en face preparations of aortic arches. E, Cumulative plaque surface at the level of aortic valves and root (n=7–9). Bars and error bars represent mean±S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Gene Inactivation of Proprotein Convertase Subtilisin/Kexin Type 9 Reduces Atherosclerosis in MiceClinical Perspective</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Maxime Denis, Jadwiga Marcinkiewicz, Ahmed Zaid, Dany Gauthier, Steve Poirier, Claude Lazure, Nabil G. Seidah, and Annik Prat</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Circulation</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125(7):894-901</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February 21, 2012</a:t>
            </a:r>
            <a:endParaRPr b="0" lang="en-US" sz="1800" spc="-1" strike="noStrike">
              <a:solidFill>
                <a:srgbClr val="000000"/>
              </a:solidFill>
              <a:latin typeface="Times New Roman"/>
            </a:endParaRPr>
          </a:p>
        </p:txBody>
      </p:sp>
      <p:sp>
        <p:nvSpPr>
          <p:cNvPr id="44"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488880" y="6861240"/>
            <a:ext cx="1389240" cy="561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Direct relationship between atherosclerosis and proprotein convertase subtilisin/kexin type 9 (PCSK9) in mice.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488880" y="6861240"/>
            <a:ext cx="1389240" cy="561960"/>
          </a:xfrm>
          <a:prstGeom prst="rect">
            <a:avLst/>
          </a:prstGeom>
          <a:ln w="0">
            <a:noFill/>
          </a:ln>
        </p:spPr>
      </p:pic>
      <p:pic>
        <p:nvPicPr>
          <p:cNvPr id="48" name="" descr=""/>
          <p:cNvPicPr/>
          <p:nvPr/>
        </p:nvPicPr>
        <p:blipFill>
          <a:blip r:embed="rId2"/>
          <a:stretch/>
        </p:blipFill>
        <p:spPr>
          <a:xfrm>
            <a:off x="782640" y="1079640"/>
            <a:ext cx="8518680" cy="5394240"/>
          </a:xfrm>
          <a:prstGeom prst="rect">
            <a:avLst/>
          </a:prstGeom>
          <a:ln w="0">
            <a:noFill/>
          </a:ln>
        </p:spPr>
      </p:pic>
      <p:sp>
        <p:nvSpPr>
          <p:cNvPr id="49" name=""/>
          <p:cNvSpPr/>
          <p:nvPr/>
        </p:nvSpPr>
        <p:spPr>
          <a:xfrm>
            <a:off x="7826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axime Denis et al. Circulation. 2012;125:894-901</a:t>
            </a:r>
            <a:endParaRPr b="0" lang="en-US" sz="1200" spc="-1" strike="noStrike">
              <a:solidFill>
                <a:srgbClr val="000000"/>
              </a:solidFill>
              <a:latin typeface="Times New Roman"/>
            </a:endParaRPr>
          </a:p>
        </p:txBody>
      </p:sp>
      <p:sp>
        <p:nvSpPr>
          <p:cNvPr id="50"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nalysis of intima-media thickness (IMT).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488880" y="6861240"/>
            <a:ext cx="1389240" cy="561960"/>
          </a:xfrm>
          <a:prstGeom prst="rect">
            <a:avLst/>
          </a:prstGeom>
          <a:ln w="0">
            <a:noFill/>
          </a:ln>
        </p:spPr>
      </p:pic>
      <p:pic>
        <p:nvPicPr>
          <p:cNvPr id="53" name="" descr=""/>
          <p:cNvPicPr/>
          <p:nvPr/>
        </p:nvPicPr>
        <p:blipFill>
          <a:blip r:embed="rId2"/>
          <a:stretch/>
        </p:blipFill>
        <p:spPr>
          <a:xfrm>
            <a:off x="3755880" y="1079640"/>
            <a:ext cx="2575080" cy="5394240"/>
          </a:xfrm>
          <a:prstGeom prst="rect">
            <a:avLst/>
          </a:prstGeom>
          <a:ln w="0">
            <a:noFill/>
          </a:ln>
        </p:spPr>
      </p:pic>
      <p:sp>
        <p:nvSpPr>
          <p:cNvPr id="54" name=""/>
          <p:cNvSpPr/>
          <p:nvPr/>
        </p:nvSpPr>
        <p:spPr>
          <a:xfrm>
            <a:off x="37558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axime Denis et al. Circulation. 2012;125:894-901</a:t>
            </a:r>
            <a:endParaRPr b="0" lang="en-US" sz="1200" spc="-1" strike="noStrike">
              <a:solidFill>
                <a:srgbClr val="000000"/>
              </a:solidFill>
              <a:latin typeface="Times New Roman"/>
            </a:endParaRPr>
          </a:p>
        </p:txBody>
      </p:sp>
      <p:sp>
        <p:nvSpPr>
          <p:cNvPr id="55"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he absence of proprotein convertase subtilisin/kexin type 9 (PCSK9) protects apolipoprotein E (apoE)–deficient mice from atherosclerosis.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488880" y="6861240"/>
            <a:ext cx="1389240" cy="561960"/>
          </a:xfrm>
          <a:prstGeom prst="rect">
            <a:avLst/>
          </a:prstGeom>
          <a:ln w="0">
            <a:noFill/>
          </a:ln>
        </p:spPr>
      </p:pic>
      <p:pic>
        <p:nvPicPr>
          <p:cNvPr id="58" name="" descr=""/>
          <p:cNvPicPr/>
          <p:nvPr/>
        </p:nvPicPr>
        <p:blipFill>
          <a:blip r:embed="rId2"/>
          <a:stretch/>
        </p:blipFill>
        <p:spPr>
          <a:xfrm>
            <a:off x="941400" y="1079640"/>
            <a:ext cx="8202600" cy="5394240"/>
          </a:xfrm>
          <a:prstGeom prst="rect">
            <a:avLst/>
          </a:prstGeom>
          <a:ln w="0">
            <a:noFill/>
          </a:ln>
        </p:spPr>
      </p:pic>
      <p:sp>
        <p:nvSpPr>
          <p:cNvPr id="59" name=""/>
          <p:cNvSpPr/>
          <p:nvPr/>
        </p:nvSpPr>
        <p:spPr>
          <a:xfrm>
            <a:off x="9414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axime Denis et al. Circulation. 2012;125:894-901</a:t>
            </a:r>
            <a:endParaRPr b="0" lang="en-US" sz="1200" spc="-1" strike="noStrike">
              <a:solidFill>
                <a:srgbClr val="000000"/>
              </a:solidFill>
              <a:latin typeface="Times New Roman"/>
            </a:endParaRPr>
          </a:p>
        </p:txBody>
      </p:sp>
      <p:sp>
        <p:nvSpPr>
          <p:cNvPr id="60"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ime course study of the protective effect of proprotein convertase subtilisin/kexin type 9 (PCSK9) in apolipoprotein E (apoE)–deficient mice.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488880" y="6861240"/>
            <a:ext cx="1389240" cy="561960"/>
          </a:xfrm>
          <a:prstGeom prst="rect">
            <a:avLst/>
          </a:prstGeom>
          <a:ln w="0">
            <a:noFill/>
          </a:ln>
        </p:spPr>
      </p:pic>
      <p:pic>
        <p:nvPicPr>
          <p:cNvPr id="63" name="" descr=""/>
          <p:cNvPicPr/>
          <p:nvPr/>
        </p:nvPicPr>
        <p:blipFill>
          <a:blip r:embed="rId2"/>
          <a:stretch/>
        </p:blipFill>
        <p:spPr>
          <a:xfrm>
            <a:off x="1608120" y="1079640"/>
            <a:ext cx="6867720" cy="5394240"/>
          </a:xfrm>
          <a:prstGeom prst="rect">
            <a:avLst/>
          </a:prstGeom>
          <a:ln w="0">
            <a:noFill/>
          </a:ln>
        </p:spPr>
      </p:pic>
      <p:sp>
        <p:nvSpPr>
          <p:cNvPr id="64" name=""/>
          <p:cNvSpPr/>
          <p:nvPr/>
        </p:nvSpPr>
        <p:spPr>
          <a:xfrm>
            <a:off x="16081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axime Denis et al. Circulation. 2012;125:894-901</a:t>
            </a:r>
            <a:endParaRPr b="0" lang="en-US" sz="1200" spc="-1" strike="noStrike">
              <a:solidFill>
                <a:srgbClr val="000000"/>
              </a:solidFill>
              <a:latin typeface="Times New Roman"/>
            </a:endParaRPr>
          </a:p>
        </p:txBody>
      </p:sp>
      <p:sp>
        <p:nvSpPr>
          <p:cNvPr id="65"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Proprotein convertase subtilisin/kexin type 9 (PCSK9) modulates atherosclerosis essentially via the low-density lipoprotein receptor.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488880" y="6861240"/>
            <a:ext cx="1389240" cy="561960"/>
          </a:xfrm>
          <a:prstGeom prst="rect">
            <a:avLst/>
          </a:prstGeom>
          <a:ln w="0">
            <a:noFill/>
          </a:ln>
        </p:spPr>
      </p:pic>
      <p:pic>
        <p:nvPicPr>
          <p:cNvPr id="68" name="" descr=""/>
          <p:cNvPicPr/>
          <p:nvPr/>
        </p:nvPicPr>
        <p:blipFill>
          <a:blip r:embed="rId2"/>
          <a:stretch/>
        </p:blipFill>
        <p:spPr>
          <a:xfrm>
            <a:off x="1052640" y="1079640"/>
            <a:ext cx="7978680" cy="5394240"/>
          </a:xfrm>
          <a:prstGeom prst="rect">
            <a:avLst/>
          </a:prstGeom>
          <a:ln w="0">
            <a:noFill/>
          </a:ln>
        </p:spPr>
      </p:pic>
      <p:sp>
        <p:nvSpPr>
          <p:cNvPr id="69" name=""/>
          <p:cNvSpPr/>
          <p:nvPr/>
        </p:nvSpPr>
        <p:spPr>
          <a:xfrm>
            <a:off x="10526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axime Denis et al. Circulation. 2012;125:894-901</a:t>
            </a:r>
            <a:endParaRPr b="0" lang="en-US" sz="1200" spc="-1" strike="noStrike">
              <a:solidFill>
                <a:srgbClr val="000000"/>
              </a:solidFill>
              <a:latin typeface="Times New Roman"/>
            </a:endParaRPr>
          </a:p>
        </p:txBody>
      </p:sp>
      <p:sp>
        <p:nvSpPr>
          <p:cNvPr id="70"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