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spontaneous electric activity of human embryonic stem cell–derived cardiomyocytes (hESC-CMs) and induced pluripotent stem cell–derived cardiomyocytes (iPSC-CMs) cultures. A and D, hESC-CMs and iPSC-CMs clusters plated on top of the microelectrode array bath. Activation spikes and repolarization waves were recorded in hESC-CMs (B and E) and iPSC-CMs cultures. B and E show electrograms (from C and F) recorded on a faster time scale. G and H, The mean beat rate in the short- and long-term experiments, respectively. G, The mean beat rate was similar in hESC-CMs and iPSC-CMs and was steady over time in both groups: P=0.52, P=0.64, and P=0.50 for the interaction, time, and type analyses, respectively. Number of observations=5 to 6 on days 1 to 11 and 3 to 4 on day 15. Total observations=28 hESC-CMs and 25 iPSC-CMs. H, The mean beat was stable during the 8-hour recording session (P=0.64). n=4 embryoid bo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lectrogram properties in the short-term (human embryonic stem cell–derived cardiomyocytes [hESC-CMs] and induced pluripotent stem cell–derived cardiomyocytes [iPSC-CMs]) and long-term (hESC-CMs) experiments. Activation amplitude (A) and activation duration (C) were similar in both groups and stable during the recording session: P=0.49 and P=0.43 (for A and C, respectively), P=0.31 and P=0.45, and P=0.09 and P=0.88 for the analyses of interaction, time, and type, respectively. B, Activation-repolarization interval (ARI) was longer in hESC-CMs than in iPSC-CMs and stable during the recording session: P=0.93, P=0.57, and P=0.025 for the interaction, time, and type analyses, respectively. In the 8-hour experiments (n=3–4 embryoid bodies), the activation amplitude (D), ARI (E), and activation duration (F) were stable over time: P=0.32, P=0.22, and P=0.56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chronotropic response of human embryonic stem cell–derived cardiomyocytes (hESC-CMs) and induced pluripotent stem cell–derived cardiomyocytes (iPSC-CMs) to autonomic neurotransmitters. Representative electrograms recorded from iPSC-CMs (A and B) and hESC-CMs (C and D) in the absence or presence of the β-adrenergic agonist isoproterenol (Iso; followed by isoproterenol plus metoprolol [Met]) or the muscarinic agonist carbamylcholine (Cch; followed by carbamylcholine plus atropine [Atro]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chronotropic response of human embryonic stem cell–derived cardiomyocytes (hESC-CMs) and induced pluripotent stem cell–derived cardiomyocytes (iPSC-CMs) to autonomic neurotransmitters. A, The effect of isoproterenol on the beat rate of iPSC-CMs and hESC-CMs and the blocking effect of the β-blocker metoprolol. The effect of isoproterenol was statistically significant (*P&lt;0.001) and similar in both cell types (P=0.277). Metoprolol significantly (**P=0.009) decreased the effect of 10−6 mol/L isoproterenol and was similarly effective in both cell types (P=0.386). B, The effect of carbamylcholine on the beat rate of iPSC-CMs and hESC-CMs and the inhibitory effect of the cholinergic blocker atropine. The effect of carbamylcholine was statistically significant (*P&lt;0.001) and similar in both cell types (P=0.076). Atropine significantly (**P=0.009) decreased the effect of 10−6 mol/L carbamylcholine and was similarly effective in both cell types (P=0.117). Results (mean±SEM) are expressed as percent change from control beat rate. n=3 embryoid bodies in each cell type. For details, see the online-only Data Supp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alysis of self-similarity of the beat rate time series with detrended fluctuation analysis (DFA) in short- and long-term experiments. A and D, DFA calculations for a representative short-term human embryonic stem cell–derived cardiomyocytes (hESC-CMs) culture (day 4) and a representative induced pluripotent stem cell–derived cardiomyocytes (iPSC-CMs) culture (day 18), respectively. The plot of F(n) over n on a double-logarithmic plot shows a linear relation from which the short-term scaling exponent (α1) and the long-term scaling exponent (α2) were calculated. B, Values of α1 were similar in both groups and stable during the experiments: P=0.20, P=0.45, and P=0.88 for the interaction, time, and type analyses, respectively. E, Values of α2 were similar in both groups (P=0.20 and P=0.188 for the interaction and type analyses, respectively) and increased with time in both groups (P=0.05). C, DFA calculations for a representative long-term hESC-CMs culture. F, Values of α1 and α2 in the 8-hour experiments (n=4 embryoid bodies) were stable during the 8-hour recording (P=0.25 and P=0.55, respective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wer-law behavior of beat rate variability in short- and long-term recordings. Power spectral analysis performed with fast Fourier transform reveals a linear relationship between power spectral density and frequency on a double-logarithmic scale in representative human embryonic stem cell–derived cardiomyocytes (hESC-CMs; A) and induced pluripotent stem cell–derived cardiomyocytes (iPSC-CMs; B) cultures, both from day 15. The slope of the fitted regression line corresponds to the power-law exponent β. C, The same procedure was repeated for each of the short-term recordings, and β was averaged separately according to culture type. Values of β were similar in both groups and stable over time: P=0.10, P=0.10, and P=0.88 for the interaction, time and type analyses, respectively. D, An example of calculating β in the long-term experiment. E, A summary of the β values during the long-term experiment. Values of β were stable over time: P=0.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incaré plots of the beat rate variability in short-term recordings. Poincaré plots in representative human embryonic stem cell–derived cardiomyocytes (hESC-CMs; A) and induced pluripotent stem cell–derived cardiomyocytes (iPSC-CMs; B) cultures. See Methods for details. The minor axis (SD1) of the ellipse represents the SD of the short-term interbeat interval (IBI) variability, and the major axis (SD2) represents the SD of the long-term IBI variability. C and D, A summary of SD1 and SD2 values for both culture types. SD1 and SD2 did not differ between hESC-CMs and iPSC-CMs and remained stable during the 15-day follow-up period. For SD1, P=0.42, P=0.44, and P=0.36; for SD2, P=0.39, P=0.81, and P=0.31 for the interaction, time, and type analyse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ase-portrait display of the electrogram signal. Two-dimensional phase-space figure of a representative human embryonic stem cell–derived cardiomyocytes (hESC-CMs) culture during a 15-day follow-up. Day 1: a compact, dense, disorganized pattern. Day 4: the beginning of an organized QRS-like pattern formation. Day 7: the QRS pattern becomes more accentuated. Day 15: a fully organized (human-like) pat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mbryonic and Induced Pluripotent Stem Cell–Derived Cardiomyocytes Exhibit Beat Rate Variability and Power-Law Behavior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Yael Mandel, Amir Weissman, Revital Schick, Lili Barad, Atara Novak, Gideon Meiry, Stanislav Goldberg, Avraham Lorber, Michael R. Rosen, Joseph Itskovitz-Eldor, and Ofer Bin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883-8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pontaneous electric activity of human embryonic stem cell–derived cardiomyocytes (hESC-CMs) and induced pluripotent stem cell–derived cardiomyocytes (iPSC-CMs) cultu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39880" y="1079640"/>
            <a:ext cx="66056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398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ectrogram properties in the short-term (human embryonic stem cell–derived cardiomyocytes [hESC-CMs] and induced pluripotent stem cell–derived cardiomyocytes [iPSC-CMs]) and long-term (hESC-CMs)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374840"/>
            <a:ext cx="8604360" cy="480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chronotropic response of human embryonic stem cell–derived cardiomyocytes (hESC-CMs) and induced pluripotent stem cell–derived cardiomyocytes (iPSC-CMs) to autonomic neurotransmit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57440" y="1079640"/>
            <a:ext cx="67690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574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chronotropic response of human embryonic stem cell–derived cardiomyocytes (hESC-CMs) and induced pluripotent stem cell–derived cardiomyocytes (iPSC-CMs) to autonomic neurotransmit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2065320"/>
            <a:ext cx="8604360" cy="342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of self-similarity of the beat rate time series with detrended fluctuation analysis (DFA) in short- and long-term experim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65520" y="1079640"/>
            <a:ext cx="455616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65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wer-law behavior of beat rate variability in short- and long-term recor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01800" y="1079640"/>
            <a:ext cx="468180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1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incaré plots of the beat rate variability in short-term recor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6120" y="1079640"/>
            <a:ext cx="719316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6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-portrait display of the electrogram sign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7120" y="1079640"/>
            <a:ext cx="6491160" cy="539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97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ael Mandel et al. Circulation. 2012;125:883-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