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nsolidated Standards of Reporting Trials (CONSORT) flow diagram of patients through each stage of the t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icacy of Quantified Home-Based Exercise and Supervised Exercise in Patients With Intermittent Claudication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drew W. Gardner, Donald E. Parker, Polly S. Montgomery, Kristy J. Scott, and Steve M. Blev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3(5):491-4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8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olidated Standards of Reporting Trials (CONSORT) flow diagram of patients through each stage of the 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0" y="1079640"/>
            <a:ext cx="47862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96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W. Gardner et al. Circulation. 2011;123:491-4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