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ome of the physiological changes that accompany and facilitate the accommodation of the circulatory system to the hemodynamic demands of exercise. RAp indicates right atrial pressure; LAp, left atrial pressure; PVR, pulmonary vascular resistance; SVR, systemic vascular resistance; PAp, pulmonary artery pressure; and AOp, aortic press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fluence of various clinical conditions on the relationship between HR and V̇o2 during exercise. Variation of HR with respect to V̇o2 during a progressive exercise test for a hypothetical 50-kg, 15-year-old normal subject (solid triangle), athlete (diamond), patient with a depressed chronotropic response (circle), patient with a depressed stroke volume response (square), and patient with both a depressed chronotropic and stroke volume response (open triangles) is shown. Note that the athlete's peak O2P (peak oxygen consumption divided by peak HR) is above normal. The patient with a depressed stroke volume response has a below-normal peak O2P and partially compensates for this condition by increasing HR more rapidly than normal, causing the slope of the HR-V̇o2 curve to be abnormally steep. In contrast, the patient with a depressed chronotropic response has an abnormally flattened curve and cannot achieve a normal peak HR, although a partial compensation for the chronotropic deficiency is achieved by increasing the peak O2P (ie, stroke volume) to above-normal levels. (This pattern is also encountered in patients with structurally normal hearts who are receiving β-blocker therapy.) The patient with the depressed chronotropic and stroke volume response still has a steeper-than-normal slope but cannot achieve a normal peak HR and cannot compensate for this chronotropic deficiency by increasing stroke volume. This individual's peak V̇o2 is therefore more depressed than that of any of the other subjects. Reprinted with permission of the publisher from Rhodes.27 Copyright © 2006, Elsevi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V̇e and V̇co2 in a patient with tetralogy of Fallot before and after successful pulmonary artery balloon angioplasty that increased left pulmonary artery blood flow from 13% to 35% of the total pulmonary blood flow. Square symbols are data points before angioplasty; triangular symbols are data points after angioplasty. The solid line represents the linear portion of the V̇e/V̇co2 relationship before angioplasty (the slope of the line is the V̇e/V̇co2 slope). The dashed line is the relationship after angioplasty. Note that, after the angioplasty, the patient's V̇e was lower for any given V̇co2. The V̇e/V̇co2 slope fell from 35 to 29 and was associated with an increase in the peak V̇o2 from 18.8 to 23.7 mL/kg per minute and a rise in the end-tidal Pco2 at the anaerobic threshold from 32 to 36 mm H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V̇e and V̇co2 in a patient with fenestrated Fontan before and after successful fenestration closure. Square symbols are data points before fenestration closure; triangular symbols are data points after closure. The solid line represents the linear portion of the V̇e/V̇co2 relationship before closure (the slope of the line is the V̇e/V̇co2 slope). The dashed line is the relationship after closure. Note that, after the fenestration closure, the patient's V̇e was lower for any given V̇co2. The V̇e/V̇co2 slope fell from 41 to 30 and was associated with an increase in the end-tidal Pco2 at the anaerobic threshold from 26 to 34 mm Hg. Peak V̇o2 fell from 34.5 to 34.4 mL/kg per min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lgorithm for initial categorization of patients with low peak V̇o2. SV indicates stroke volu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xercise Testing and Training in Children With Congenital Heart Dise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onathan Rhodes, Ana Ubeda Tikkanen, and Kathy J. Jenkin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2(19):1957-196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9, 2010</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ome of the physiological changes that accompany and facilitate the accommodation of the circulatory system to the hemodynamic demands of exercis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2036880"/>
            <a:ext cx="8604360" cy="34797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onathan Rhodes et al. Circulation. 2010;122:1957-1967</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fluence of various clinical conditions on the relationship between HR and V̇o2 during exerci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658880" y="1079640"/>
            <a:ext cx="6767640" cy="5394240"/>
          </a:xfrm>
          <a:prstGeom prst="rect">
            <a:avLst/>
          </a:prstGeom>
          <a:ln w="0">
            <a:noFill/>
          </a:ln>
        </p:spPr>
      </p:pic>
      <p:sp>
        <p:nvSpPr>
          <p:cNvPr id="54" name=""/>
          <p:cNvSpPr/>
          <p:nvPr/>
        </p:nvSpPr>
        <p:spPr>
          <a:xfrm>
            <a:off x="1658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onathan Rhodes et al. Circulation. 2010;122:1957-1967</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V̇e and V̇co2 in a patient with tetralogy of Fallot before and after successful pulmonary artery balloon angioplasty that increased left pulmonary artery blood flow from 13% to 35% of the total pulmonary blood flow.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428920" y="1079640"/>
            <a:ext cx="5227560" cy="5394240"/>
          </a:xfrm>
          <a:prstGeom prst="rect">
            <a:avLst/>
          </a:prstGeom>
          <a:ln w="0">
            <a:noFill/>
          </a:ln>
        </p:spPr>
      </p:pic>
      <p:sp>
        <p:nvSpPr>
          <p:cNvPr id="59" name=""/>
          <p:cNvSpPr/>
          <p:nvPr/>
        </p:nvSpPr>
        <p:spPr>
          <a:xfrm>
            <a:off x="2428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onathan Rhodes et al. Circulation. 2010;122:1957-1967</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V̇e and V̇co2 in a patient with fenestrated Fontan before and after successful fenestration closur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521080" y="1079640"/>
            <a:ext cx="5045040" cy="5394240"/>
          </a:xfrm>
          <a:prstGeom prst="rect">
            <a:avLst/>
          </a:prstGeom>
          <a:ln w="0">
            <a:noFill/>
          </a:ln>
        </p:spPr>
      </p:pic>
      <p:sp>
        <p:nvSpPr>
          <p:cNvPr id="64" name=""/>
          <p:cNvSpPr/>
          <p:nvPr/>
        </p:nvSpPr>
        <p:spPr>
          <a:xfrm>
            <a:off x="2521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onathan Rhodes et al. Circulation. 2010;122:1957-1967</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lgorithm for initial categorization of patients with low peak V̇o2.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739800" y="1417680"/>
            <a:ext cx="8604360" cy="471816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onathan Rhodes et al. Circulation. 2010;122:1957-1967</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