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Proportional distribution of main diagnoses among study subjects (n=7414). ASD indicates atrial septal defect (17%); VSD, ventricular septal defect (14%); ToF, tetralogy of Fallot (11%); CoA, aortic coarctation (10%); AoS, aortic stenosis (8%); PS, pulmonary stenosis (7%); BAV, bicuspid aortic valve (6%); Marfan, Marfan syndrome (5%); TGA, transposition of the great arteries (5%); PA, pulmonary atresia (2%); AVSD, atrioventricular septal defect (2%); Ebstein, Ebstein’s anomaly (2%); and Other, other congenital heart defects (1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entages of outcomes in men (n=3724) and women (n=3690). Percentages are not adjusted for age and underlying congenital heart defects. CVA indicates cerebrovascular accident; TIA, transient ischemic atta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ORs of outcomes in women compared with men. The gray lines represent ORs with 95% CIs adjusted for age only. The black lines represent ORs with 95% CIs additionally adjusted for underlying congenital heart defects. The numbers adjacent to the figure correspond to the black lines. CVA indicates cerebrovascular accident; TIA, transient ischemic att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ORs in subgroups of pulmonary hypertension, aortic outcomes, and arrhythmias in women compared with men. All ORs have been adjusted for age and underlying congenital heart defects. PAH indicates pulmonary arterial hypertension; PVH, pulmonary venous hypertension; SVA, supraventricular arrhythmia; and VA, ventricular arrhythmi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Gender and Outcome in Adult Congenital Heart Dise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arianne L. Verheugt, Cuno S.P.M. Uiterwaal, Enno T. van der Velde, Folkert J. Meijboom, Petronella G. Pieper, Hubert W. Vliegen, Arie P.J. van Dijk, Berto J. Bouma, Diederick E. Grobbee, and Barbara J.M. Muld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8(1):26-3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 2008</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1. Proportional distribution of main diagnoses among study subjects (n=7414).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021040" y="1079640"/>
            <a:ext cx="6043320" cy="5394240"/>
          </a:xfrm>
          <a:prstGeom prst="rect">
            <a:avLst/>
          </a:prstGeom>
          <a:ln w="0">
            <a:noFill/>
          </a:ln>
        </p:spPr>
      </p:pic>
      <p:sp>
        <p:nvSpPr>
          <p:cNvPr id="49" name=""/>
          <p:cNvSpPr/>
          <p:nvPr/>
        </p:nvSpPr>
        <p:spPr>
          <a:xfrm>
            <a:off x="20210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ianne L. Verheugt et al. Circulation. 2008;118:26-32</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2. Percentages of outcomes in men (n=3724) and women (n=3690).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111320" y="1079640"/>
            <a:ext cx="7862760" cy="5394240"/>
          </a:xfrm>
          <a:prstGeom prst="rect">
            <a:avLst/>
          </a:prstGeom>
          <a:ln w="0">
            <a:noFill/>
          </a:ln>
        </p:spPr>
      </p:pic>
      <p:sp>
        <p:nvSpPr>
          <p:cNvPr id="54" name=""/>
          <p:cNvSpPr/>
          <p:nvPr/>
        </p:nvSpPr>
        <p:spPr>
          <a:xfrm>
            <a:off x="1111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ianne L. Verheugt et al. Circulation. 2008;118:26-32</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3. ORs of outcomes in women compared with me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419200" y="1079640"/>
            <a:ext cx="5247000" cy="5394240"/>
          </a:xfrm>
          <a:prstGeom prst="rect">
            <a:avLst/>
          </a:prstGeom>
          <a:ln w="0">
            <a:noFill/>
          </a:ln>
        </p:spPr>
      </p:pic>
      <p:sp>
        <p:nvSpPr>
          <p:cNvPr id="59" name=""/>
          <p:cNvSpPr/>
          <p:nvPr/>
        </p:nvSpPr>
        <p:spPr>
          <a:xfrm>
            <a:off x="241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ianne L. Verheugt et al. Circulation. 2008;118:26-32</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4. ORs in subgroups of pulmonary hypertension, aortic outcomes, and arrhythmias in women compared with me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305080" y="1079640"/>
            <a:ext cx="5476680" cy="5394240"/>
          </a:xfrm>
          <a:prstGeom prst="rect">
            <a:avLst/>
          </a:prstGeom>
          <a:ln w="0">
            <a:noFill/>
          </a:ln>
        </p:spPr>
      </p:pic>
      <p:sp>
        <p:nvSpPr>
          <p:cNvPr id="64" name=""/>
          <p:cNvSpPr/>
          <p:nvPr/>
        </p:nvSpPr>
        <p:spPr>
          <a:xfrm>
            <a:off x="2305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ianne L. Verheugt et al. Circulation. 2008;118:26-32</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