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1. ECG shows acute anterior and inferior wall ST ele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2. Coronary angiogram demonstrates total occlusion of mid-LAD coronary artery (arrowhead). CFX indicates left circumflex coronary ar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3. Left ventriculography shows immediate opacification of LV and then RV with subsequent filling of MPA, its RPA and LPA, RA, and IV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igure 4. Two-dimensional echocardiography. Closeup of ventricular septum in apical 4-chamber view (left) demonstrates turbulent systolic color flow Doppler across large VSD. Continuous wave Doppler (right) demonstrates systolic flow across V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entricular Septal Defect Complicating an Acute Myocardial Infar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Mazullah Kamran, Mehran Attari, and Geoffrey Web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12(22):e337-e3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vember 29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1. ECG shows acute anterior and inferior wall ST elev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776240"/>
            <a:ext cx="8604360" cy="399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zullah Kamran et al. Circulation. 2005;112:e337-e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2. Coronary angiogram demonstrates total occlusion of mid-LAD coronary artery (arrowhead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28840" y="1079640"/>
            <a:ext cx="5429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288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zullah Kamran et al. Circulation. 2005;112:e337-e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3. Left ventriculography shows immediate opacification of LV and then RV with subsequent filling of MPA, its RPA and LPA, RA, and IV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30280" y="1079640"/>
            <a:ext cx="54244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302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zullah Kamran et al. Circulation. 2005;112:e337-e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ure 4. Two-dimensional echocardiograph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53960" y="1079640"/>
            <a:ext cx="737712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539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zullah Kamran et al. Circulation. 2005;112:e337-e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